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0E2-EF93-4137-A499-F640E4BF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1B5-876F-4BEC-87D6-A6342FA1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D6F-7041-4D91-8973-8747770D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F05-A494-4085-B5FA-74F27146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A8B5-C644-44E9-B810-18F98B4E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9C14-1CA4-4059-AB19-782C89F2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7A2-AB27-4BAC-A399-47AD3339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E29A-9D48-4CB0-A7F7-72AE1C49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85E8-2667-408C-B768-FBC8D93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3017-B2DF-473E-B208-5A3E2C58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E2DB-9BB1-4CF4-84BE-1587FEE9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9A6-2247-4A73-9C47-0FE6257D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5A4-EA72-46FC-A94C-03B38732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4E71-B53E-49F4-AA4E-AFA7FE78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ED17-74E5-482D-8D56-DA1D111B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0C93-6389-4DEA-981A-85A07DE8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FC83-64F0-41FF-9BA2-87920777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31E7-9BBD-4C96-BB43-DA2B1CFC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D2A8-617B-410B-B7CF-6F4F6296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8FEA-1F5A-41A3-A912-BA72DB91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902B-D9AE-46DF-83A6-AD531F1D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4642-1A1E-46B6-9B37-8057C50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130-9FF7-4FCF-A9C3-D87DCD9B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515D-2766-46CF-9779-011EC6D7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5D9C-B273-4AB8-B24B-B696AC4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FC53-81E1-47F5-904B-497A421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43EC-A8AB-472B-8342-8CF5469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EE47-B298-403C-B3F9-50FEA42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492B-5E19-48F5-BF03-48E51EF6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CD28-C6AB-4CF4-8BA2-96753A7B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B97CD-CE6C-4979-B0F5-4330A310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9474-A08E-49CC-B626-F42D1681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8BF4F-42E0-4BD9-AEF8-F9CA4112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E95-B3B9-4135-919E-01E8A607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C98B4-8CE0-4B34-8C03-7BFAA7C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7CB4-293D-42AF-B685-1521B6E5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9A6D2-0D48-4D5D-A550-8AC326E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1B21-B666-423F-9D77-C968C361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641B3-FE4E-4D59-9A74-0BDE9FF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78B2-8352-4434-97A1-3ECD1D21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0ACC-5BC8-407D-80F1-0044B607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587C-049B-483C-B72C-70976D4A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98ACA-6910-418D-AD32-7C26B3D9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C69-F09E-4BC2-BFD4-ACC26417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9CC-A93A-4A06-BA47-5BA70CBC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390-8603-4DED-9244-B31F6F46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8F8-E223-4AD2-AB4D-D5C4B880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248-F9EA-462F-B832-19C07EB6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E865-9A4E-4BF5-8353-F3A353322EFA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41C8-DDFF-499B-8352-C6B0B285DA71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E656-06D8-4380-A26F-906A924BE8D5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6FBA-C4CA-4B8C-BBED-F851E40A498E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6" descr=""/>
          <p:cNvPicPr/>
          <p:nvPr/>
        </p:nvPicPr>
        <p:blipFill>
          <a:blip r:embed="rId1"/>
          <a:stretch/>
        </p:blipFill>
        <p:spPr>
          <a:xfrm>
            <a:off x="828720" y="1773360"/>
            <a:ext cx="75722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8800" y="785880"/>
            <a:ext cx="77580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5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абақты бекіту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гісіз бұрыштың шамасы қандай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˚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28˚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52˚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153˚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иылысқан түзулер жазықтықты неше бұрышқа бөледі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4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Прямая соединительная линия 4"/>
          <p:cNvSpPr/>
          <p:nvPr/>
        </p:nvSpPr>
        <p:spPr>
          <a:xfrm>
            <a:off x="1714680" y="2143080"/>
            <a:ext cx="2500200" cy="12146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6"/>
          <p:cNvSpPr/>
          <p:nvPr/>
        </p:nvSpPr>
        <p:spPr>
          <a:xfrm flipH="1">
            <a:off x="1643040" y="2571840"/>
            <a:ext cx="2643120" cy="4284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Дуга 13"/>
          <p:cNvSpPr/>
          <p:nvPr/>
        </p:nvSpPr>
        <p:spPr>
          <a:xfrm>
            <a:off x="3357720" y="2714760"/>
            <a:ext cx="142560" cy="642960"/>
          </a:xfrm>
          <a:custGeom>
            <a:avLst/>
            <a:gdLst/>
            <a:ahLst/>
            <a:rect l="l" t="t" r="r" b="b"/>
            <a:pathLst>
              <a:path stroke="0" w="142875" h="642938">
                <a:moveTo>
                  <a:pt x="71437" y="0"/>
                </a:moveTo>
                <a:cubicBezTo>
                  <a:pt x="110891" y="0"/>
                  <a:pt x="142875" y="143927"/>
                  <a:pt x="142875" y="321469"/>
                </a:cubicBezTo>
                <a:lnTo>
                  <a:pt x="71438" y="321469"/>
                </a:lnTo>
                <a:cubicBezTo>
                  <a:pt x="71438" y="214313"/>
                  <a:pt x="71437" y="107156"/>
                  <a:pt x="71437" y="0"/>
                </a:cubicBezTo>
                <a:close/>
              </a:path>
              <a:path fill="none" w="142875" h="642938">
                <a:moveTo>
                  <a:pt x="71437" y="0"/>
                </a:moveTo>
                <a:cubicBezTo>
                  <a:pt x="110891" y="0"/>
                  <a:pt x="142875" y="143927"/>
                  <a:pt x="142875" y="321469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Дуга 14"/>
          <p:cNvSpPr/>
          <p:nvPr/>
        </p:nvSpPr>
        <p:spPr>
          <a:xfrm flipH="1" flipV="1" rot="1968600">
            <a:off x="2282040" y="2279520"/>
            <a:ext cx="428760" cy="642960"/>
          </a:xfrm>
          <a:custGeom>
            <a:avLst/>
            <a:gdLst/>
            <a:ahLst/>
            <a:rect l="l" t="t" r="r" b="b"/>
            <a:pathLst>
              <a:path stroke="0" w="428625" h="642938">
                <a:moveTo>
                  <a:pt x="214312" y="0"/>
                </a:moveTo>
                <a:cubicBezTo>
                  <a:pt x="332674" y="0"/>
                  <a:pt x="428625" y="143927"/>
                  <a:pt x="428625" y="321469"/>
                </a:cubicBezTo>
                <a:lnTo>
                  <a:pt x="214313" y="321469"/>
                </a:lnTo>
                <a:cubicBezTo>
                  <a:pt x="214313" y="214313"/>
                  <a:pt x="214312" y="107156"/>
                  <a:pt x="214312" y="0"/>
                </a:cubicBezTo>
                <a:close/>
              </a:path>
              <a:path fill="none" w="428625" h="642938">
                <a:moveTo>
                  <a:pt x="214312" y="0"/>
                </a:moveTo>
                <a:cubicBezTo>
                  <a:pt x="332674" y="0"/>
                  <a:pt x="428625" y="143927"/>
                  <a:pt x="428625" y="321469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Блок-схема: узел 15"/>
          <p:cNvSpPr/>
          <p:nvPr/>
        </p:nvSpPr>
        <p:spPr>
          <a:xfrm>
            <a:off x="2857680" y="2714760"/>
            <a:ext cx="21420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Қиылысу нүктесін а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    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Прямая соединительная линия 4"/>
          <p:cNvSpPr/>
          <p:nvPr/>
        </p:nvSpPr>
        <p:spPr>
          <a:xfrm>
            <a:off x="1428840" y="1643040"/>
            <a:ext cx="2286000" cy="12146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6"/>
          <p:cNvSpPr/>
          <p:nvPr/>
        </p:nvSpPr>
        <p:spPr>
          <a:xfrm flipH="1">
            <a:off x="1642680" y="1499400"/>
            <a:ext cx="1785960" cy="14288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Блок-схема: узел 8"/>
          <p:cNvSpPr/>
          <p:nvPr/>
        </p:nvSpPr>
        <p:spPr>
          <a:xfrm>
            <a:off x="2428920" y="2143080"/>
            <a:ext cx="21420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уреттен вертикаль бұрыштарды көрс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             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2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1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1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Прямая соединительная линия 4"/>
          <p:cNvSpPr/>
          <p:nvPr/>
        </p:nvSpPr>
        <p:spPr>
          <a:xfrm>
            <a:off x="1928880" y="1714680"/>
            <a:ext cx="2214360" cy="10713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6"/>
          <p:cNvSpPr/>
          <p:nvPr/>
        </p:nvSpPr>
        <p:spPr>
          <a:xfrm flipH="1">
            <a:off x="1928520" y="1571760"/>
            <a:ext cx="2143080" cy="12859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Блок-схема: узел 8"/>
          <p:cNvSpPr/>
          <p:nvPr/>
        </p:nvSpPr>
        <p:spPr>
          <a:xfrm>
            <a:off x="2928960" y="2214720"/>
            <a:ext cx="142920" cy="14256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               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                   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 бұрышына тең бұрышты та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Прямая соединительная линия 4"/>
          <p:cNvSpPr/>
          <p:nvPr/>
        </p:nvSpPr>
        <p:spPr>
          <a:xfrm>
            <a:off x="1500120" y="1285920"/>
            <a:ext cx="2357640" cy="13572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6"/>
          <p:cNvSpPr/>
          <p:nvPr/>
        </p:nvSpPr>
        <p:spPr>
          <a:xfrm flipH="1">
            <a:off x="1500120" y="928080"/>
            <a:ext cx="2286000" cy="1857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лок-схема: узел 7"/>
          <p:cNvSpPr/>
          <p:nvPr/>
        </p:nvSpPr>
        <p:spPr>
          <a:xfrm>
            <a:off x="2500200" y="185724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8"/>
          <p:cNvSpPr/>
          <p:nvPr/>
        </p:nvSpPr>
        <p:spPr>
          <a:xfrm>
            <a:off x="1071720" y="3500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Тест жауаптары: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5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       </a:t>
            </a:r>
            <a:r>
              <a:rPr b="0" i="1" lang="kk-KZ" sz="5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Үйге тапсырма: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№</a:t>
            </a:r>
            <a:r>
              <a:rPr b="0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0, №107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400" y="7045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Үй тапсырмасын сұрау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8400" y="2000160"/>
            <a:ext cx="8258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0" descr="SO00483_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6548400" y="5000760"/>
            <a:ext cx="2166840" cy="1541160"/>
          </a:xfrm>
          <a:prstGeom prst="rect">
            <a:avLst/>
          </a:prstGeom>
          <a:ln w="0">
            <a:noFill/>
          </a:ln>
        </p:spPr>
      </p:pic>
      <p:sp>
        <p:nvSpPr>
          <p:cNvPr id="208" name="Блок-схема: узел 4"/>
          <p:cNvSpPr/>
          <p:nvPr/>
        </p:nvSpPr>
        <p:spPr>
          <a:xfrm>
            <a:off x="500040" y="2357280"/>
            <a:ext cx="142920" cy="14292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6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6632640" cy="523800"/>
          </a:xfrm>
          <a:prstGeom prst="rect">
            <a:avLst/>
          </a:prstGeom>
          <a:ln w="0">
            <a:noFill/>
          </a:ln>
        </p:spPr>
      </p:pic>
      <p:sp>
        <p:nvSpPr>
          <p:cNvPr id="210" name="Блок-схема: узел 9"/>
          <p:cNvSpPr/>
          <p:nvPr/>
        </p:nvSpPr>
        <p:spPr>
          <a:xfrm flipV="1">
            <a:off x="500040" y="3142440"/>
            <a:ext cx="142920" cy="14292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Прямоугольник 10" descr=""/>
          <p:cNvPicPr/>
          <p:nvPr/>
        </p:nvPicPr>
        <p:blipFill>
          <a:blip r:embed="rId3"/>
          <a:stretch/>
        </p:blipFill>
        <p:spPr>
          <a:xfrm>
            <a:off x="1712880" y="3071880"/>
            <a:ext cx="50356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Блок-схема: узел 3"/>
          <p:cNvSpPr/>
          <p:nvPr/>
        </p:nvSpPr>
        <p:spPr>
          <a:xfrm>
            <a:off x="1357200" y="2214720"/>
            <a:ext cx="142920" cy="14256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Блок-схема: узел 5"/>
          <p:cNvSpPr/>
          <p:nvPr/>
        </p:nvSpPr>
        <p:spPr>
          <a:xfrm>
            <a:off x="3500280" y="2214720"/>
            <a:ext cx="142920" cy="142560"/>
          </a:xfrm>
          <a:prstGeom prst="flowChartConnector">
            <a:avLst/>
          </a:prstGeom>
          <a:solidFill>
            <a:srgbClr val="00206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Прямоугольник 6" descr=""/>
          <p:cNvPicPr/>
          <p:nvPr/>
        </p:nvPicPr>
        <p:blipFill>
          <a:blip r:embed="rId1"/>
          <a:stretch/>
        </p:blipFill>
        <p:spPr>
          <a:xfrm>
            <a:off x="1047600" y="1212840"/>
            <a:ext cx="605160" cy="950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8" descr=""/>
          <p:cNvPicPr/>
          <p:nvPr/>
        </p:nvPicPr>
        <p:blipFill>
          <a:blip r:embed="rId2"/>
          <a:stretch/>
        </p:blipFill>
        <p:spPr>
          <a:xfrm>
            <a:off x="3322800" y="1200240"/>
            <a:ext cx="554040" cy="9525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ая соединительная линия 10"/>
          <p:cNvSpPr/>
          <p:nvPr/>
        </p:nvSpPr>
        <p:spPr>
          <a:xfrm>
            <a:off x="714240" y="2286000"/>
            <a:ext cx="392904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13"/>
          <p:cNvSpPr/>
          <p:nvPr/>
        </p:nvSpPr>
        <p:spPr>
          <a:xfrm>
            <a:off x="5643720" y="2714760"/>
            <a:ext cx="20001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14"/>
          <p:cNvSpPr/>
          <p:nvPr/>
        </p:nvSpPr>
        <p:spPr>
          <a:xfrm flipV="1">
            <a:off x="5214960" y="4928760"/>
            <a:ext cx="228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16" descr=""/>
          <p:cNvPicPr/>
          <p:nvPr/>
        </p:nvPicPr>
        <p:blipFill>
          <a:blip r:embed="rId3"/>
          <a:stretch/>
        </p:blipFill>
        <p:spPr>
          <a:xfrm>
            <a:off x="7351560" y="3144960"/>
            <a:ext cx="444600" cy="92052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7" descr=""/>
          <p:cNvPicPr/>
          <p:nvPr/>
        </p:nvPicPr>
        <p:blipFill>
          <a:blip r:embed="rId4"/>
          <a:stretch/>
        </p:blipFill>
        <p:spPr>
          <a:xfrm>
            <a:off x="6424560" y="4145040"/>
            <a:ext cx="506520" cy="920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3920" y="2857680"/>
            <a:ext cx="254340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1-</a:t>
            </a: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урет</a:t>
            </a: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5429160" y="5500800"/>
            <a:ext cx="25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 </a:t>
            </a: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-</a:t>
            </a: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у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0"/>
          <p:cNvSpPr/>
          <p:nvPr/>
        </p:nvSpPr>
        <p:spPr>
          <a:xfrm flipV="1">
            <a:off x="4357800" y="4857840"/>
            <a:ext cx="27144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7580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Қиылысатын екі түзудің ортақ бір ғана нүктесі болады</a:t>
            </a:r>
            <a:endParaRPr b="0" lang="en-US" sz="24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                                b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                   b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             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рямая соединительная линия 4"/>
          <p:cNvSpPr/>
          <p:nvPr/>
        </p:nvSpPr>
        <p:spPr>
          <a:xfrm>
            <a:off x="785880" y="2286000"/>
            <a:ext cx="2786040" cy="20718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6"/>
          <p:cNvSpPr/>
          <p:nvPr/>
        </p:nvSpPr>
        <p:spPr>
          <a:xfrm flipH="1">
            <a:off x="357120" y="2428200"/>
            <a:ext cx="3857760" cy="17859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лок-схема: узел 7"/>
          <p:cNvSpPr/>
          <p:nvPr/>
        </p:nvSpPr>
        <p:spPr>
          <a:xfrm>
            <a:off x="2071800" y="3286080"/>
            <a:ext cx="21420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2"/>
          <p:cNvSpPr/>
          <p:nvPr/>
        </p:nvSpPr>
        <p:spPr>
          <a:xfrm flipH="1">
            <a:off x="4286160" y="3714120"/>
            <a:ext cx="3857760" cy="17859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3"/>
          <p:cNvSpPr/>
          <p:nvPr/>
        </p:nvSpPr>
        <p:spPr>
          <a:xfrm>
            <a:off x="4572000" y="3429000"/>
            <a:ext cx="2786040" cy="20718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5480" y="1071720"/>
            <a:ext cx="8543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ір бұрыштың қабырғалары, екінші бұрыштың қабырғаларымен толықтауыш  сәулелер болатын екі бұрыш </a:t>
            </a:r>
            <a:br>
              <a:rPr sz="3200"/>
            </a:br>
            <a:r>
              <a:rPr b="1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тикаль бұрыштар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еп аталады.</a:t>
            </a:r>
            <a:br>
              <a:rPr sz="3200"/>
            </a:br>
            <a:br>
              <a:rPr sz="3200"/>
            </a:br>
            <a:r>
              <a:rPr b="0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тикаль бұрыштар өзара тең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0" y="2714400"/>
            <a:ext cx="357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3" name="Прямая соединительная линия 4"/>
          <p:cNvSpPr/>
          <p:nvPr/>
        </p:nvSpPr>
        <p:spPr>
          <a:xfrm>
            <a:off x="1714680" y="3571920"/>
            <a:ext cx="457200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"/>
          <p:cNvSpPr/>
          <p:nvPr/>
        </p:nvSpPr>
        <p:spPr>
          <a:xfrm>
            <a:off x="1714680" y="5500800"/>
            <a:ext cx="457200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9"/>
          <p:cNvSpPr/>
          <p:nvPr/>
        </p:nvSpPr>
        <p:spPr>
          <a:xfrm>
            <a:off x="2214720" y="2857680"/>
            <a:ext cx="3357360" cy="32860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12"/>
          <p:cNvSpPr/>
          <p:nvPr/>
        </p:nvSpPr>
        <p:spPr>
          <a:xfrm flipH="1">
            <a:off x="2357280" y="2928960"/>
            <a:ext cx="3214800" cy="32860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Блок-схема: узел 13"/>
          <p:cNvSpPr/>
          <p:nvPr/>
        </p:nvSpPr>
        <p:spPr>
          <a:xfrm>
            <a:off x="2857680" y="3500280"/>
            <a:ext cx="14256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Блок-схема: узел 14"/>
          <p:cNvSpPr/>
          <p:nvPr/>
        </p:nvSpPr>
        <p:spPr>
          <a:xfrm>
            <a:off x="4929120" y="350028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Блок-схема: узел 15"/>
          <p:cNvSpPr/>
          <p:nvPr/>
        </p:nvSpPr>
        <p:spPr>
          <a:xfrm>
            <a:off x="3929040" y="4500720"/>
            <a:ext cx="142920" cy="14256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Блок-схема: узел 17"/>
          <p:cNvSpPr/>
          <p:nvPr/>
        </p:nvSpPr>
        <p:spPr>
          <a:xfrm>
            <a:off x="3000240" y="542916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Блок-схема: узел 18"/>
          <p:cNvSpPr/>
          <p:nvPr/>
        </p:nvSpPr>
        <p:spPr>
          <a:xfrm>
            <a:off x="4857840" y="542916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5143680" y="278604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6000840" y="50007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Заголовок 1"/>
          <p:cNvSpPr/>
          <p:nvPr/>
        </p:nvSpPr>
        <p:spPr>
          <a:xfrm>
            <a:off x="6000840" y="3071880"/>
            <a:ext cx="285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2928960" y="31431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Заголовок 1"/>
          <p:cNvSpPr/>
          <p:nvPr/>
        </p:nvSpPr>
        <p:spPr>
          <a:xfrm>
            <a:off x="4643280" y="3000240"/>
            <a:ext cx="357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Заголовок 1"/>
          <p:cNvSpPr/>
          <p:nvPr/>
        </p:nvSpPr>
        <p:spPr>
          <a:xfrm>
            <a:off x="3786120" y="3857760"/>
            <a:ext cx="357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3000240" y="571500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4643280" y="5643720"/>
            <a:ext cx="357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оугольник 27" descr=""/>
          <p:cNvPicPr/>
          <p:nvPr/>
        </p:nvPicPr>
        <p:blipFill>
          <a:blip r:embed="rId1"/>
          <a:stretch/>
        </p:blipFill>
        <p:spPr>
          <a:xfrm>
            <a:off x="785880" y="858960"/>
            <a:ext cx="78580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13920" y="3071520"/>
            <a:ext cx="747252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     3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               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Заголовок 3" descr=""/>
          <p:cNvPicPr/>
          <p:nvPr/>
        </p:nvPicPr>
        <p:blipFill>
          <a:blip r:embed="rId1"/>
          <a:stretch/>
        </p:blipFill>
        <p:spPr>
          <a:xfrm>
            <a:off x="639720" y="712800"/>
            <a:ext cx="8047080" cy="19382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ая соединительная линия 5"/>
          <p:cNvSpPr/>
          <p:nvPr/>
        </p:nvSpPr>
        <p:spPr>
          <a:xfrm>
            <a:off x="3071880" y="3500280"/>
            <a:ext cx="3000240" cy="18576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7"/>
          <p:cNvSpPr/>
          <p:nvPr/>
        </p:nvSpPr>
        <p:spPr>
          <a:xfrm flipV="1">
            <a:off x="2500200" y="4428720"/>
            <a:ext cx="4214880" cy="716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9"/>
          <p:cNvSpPr/>
          <p:nvPr/>
        </p:nvSpPr>
        <p:spPr>
          <a:xfrm flipH="1">
            <a:off x="3642840" y="3071880"/>
            <a:ext cx="2000520" cy="26431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56800" y="2857680"/>
            <a:ext cx="78296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    1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    O     2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Заголовок 3" descr=""/>
          <p:cNvPicPr/>
          <p:nvPr/>
        </p:nvPicPr>
        <p:blipFill>
          <a:blip r:embed="rId1"/>
          <a:stretch/>
        </p:blipFill>
        <p:spPr>
          <a:xfrm>
            <a:off x="500040" y="927000"/>
            <a:ext cx="8229600" cy="15717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5"/>
          <p:cNvSpPr/>
          <p:nvPr/>
        </p:nvSpPr>
        <p:spPr>
          <a:xfrm>
            <a:off x="3071880" y="3214800"/>
            <a:ext cx="2000160" cy="25714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7"/>
          <p:cNvSpPr/>
          <p:nvPr/>
        </p:nvSpPr>
        <p:spPr>
          <a:xfrm>
            <a:off x="3857760" y="3000240"/>
            <a:ext cx="357120" cy="30006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Дуга 11"/>
          <p:cNvSpPr/>
          <p:nvPr/>
        </p:nvSpPr>
        <p:spPr>
          <a:xfrm flipV="1" rot="10505400">
            <a:off x="3707280" y="3876480"/>
            <a:ext cx="442440" cy="176040"/>
          </a:xfrm>
          <a:custGeom>
            <a:avLst/>
            <a:gdLst/>
            <a:ahLst/>
            <a:rect l="l" t="t" r="r" b="b"/>
            <a:pathLst>
              <a:path stroke="0" w="442912" h="176213">
                <a:moveTo>
                  <a:pt x="221456" y="0"/>
                </a:moveTo>
                <a:cubicBezTo>
                  <a:pt x="343763" y="0"/>
                  <a:pt x="442912" y="39447"/>
                  <a:pt x="442912" y="88107"/>
                </a:cubicBezTo>
                <a:lnTo>
                  <a:pt x="221456" y="88107"/>
                </a:lnTo>
                <a:lnTo>
                  <a:pt x="221456" y="0"/>
                </a:lnTo>
                <a:close/>
              </a:path>
              <a:path fill="none" w="442912" h="176213">
                <a:moveTo>
                  <a:pt x="221456" y="0"/>
                </a:moveTo>
                <a:cubicBezTo>
                  <a:pt x="343763" y="0"/>
                  <a:pt x="442912" y="39447"/>
                  <a:pt x="442912" y="88107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Дуга 12"/>
          <p:cNvSpPr/>
          <p:nvPr/>
        </p:nvSpPr>
        <p:spPr>
          <a:xfrm flipH="1" flipV="1" rot="9153600">
            <a:off x="3610800" y="3767040"/>
            <a:ext cx="611280" cy="1564920"/>
          </a:xfrm>
          <a:custGeom>
            <a:avLst/>
            <a:gdLst/>
            <a:ahLst/>
            <a:rect l="l" t="t" r="r" b="b"/>
            <a:pathLst>
              <a:path stroke="0" w="611187" h="1565275">
                <a:moveTo>
                  <a:pt x="589515" y="493162"/>
                </a:moveTo>
                <a:cubicBezTo>
                  <a:pt x="604222" y="587772"/>
                  <a:pt x="611578" y="688822"/>
                  <a:pt x="611171" y="790648"/>
                </a:cubicBezTo>
                <a:cubicBezTo>
                  <a:pt x="610746" y="896964"/>
                  <a:pt x="601867" y="1001944"/>
                  <a:pt x="585076" y="1099182"/>
                </a:cubicBezTo>
                <a:lnTo>
                  <a:pt x="305594" y="782638"/>
                </a:lnTo>
                <a:lnTo>
                  <a:pt x="589515" y="493162"/>
                </a:lnTo>
                <a:close/>
              </a:path>
              <a:path fill="none" w="611187" h="1565275">
                <a:moveTo>
                  <a:pt x="589515" y="493162"/>
                </a:moveTo>
                <a:cubicBezTo>
                  <a:pt x="604222" y="587772"/>
                  <a:pt x="611578" y="688822"/>
                  <a:pt x="611171" y="790648"/>
                </a:cubicBezTo>
                <a:cubicBezTo>
                  <a:pt x="610746" y="896964"/>
                  <a:pt x="601867" y="1001944"/>
                  <a:pt x="585076" y="1099182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Дуга 13"/>
          <p:cNvSpPr/>
          <p:nvPr/>
        </p:nvSpPr>
        <p:spPr>
          <a:xfrm flipH="1" flipV="1" rot="20327400">
            <a:off x="3874320" y="3595320"/>
            <a:ext cx="774720" cy="1465560"/>
          </a:xfrm>
          <a:custGeom>
            <a:avLst/>
            <a:gdLst/>
            <a:ahLst/>
            <a:rect l="l" t="t" r="r" b="b"/>
            <a:pathLst>
              <a:path stroke="0" w="774700" h="1465262">
                <a:moveTo>
                  <a:pt x="728316" y="384995"/>
                </a:moveTo>
                <a:cubicBezTo>
                  <a:pt x="780200" y="567044"/>
                  <a:pt x="788987" y="782089"/>
                  <a:pt x="752507" y="977054"/>
                </a:cubicBezTo>
                <a:lnTo>
                  <a:pt x="387350" y="732631"/>
                </a:lnTo>
                <a:lnTo>
                  <a:pt x="728316" y="384995"/>
                </a:lnTo>
                <a:close/>
              </a:path>
              <a:path fill="none" w="774700" h="1465262">
                <a:moveTo>
                  <a:pt x="728316" y="384995"/>
                </a:moveTo>
                <a:cubicBezTo>
                  <a:pt x="780200" y="567044"/>
                  <a:pt x="788987" y="782089"/>
                  <a:pt x="752507" y="977054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Дуга 14"/>
          <p:cNvSpPr/>
          <p:nvPr/>
        </p:nvSpPr>
        <p:spPr>
          <a:xfrm flipH="1" rot="10505400">
            <a:off x="3865680" y="4806000"/>
            <a:ext cx="498240" cy="192240"/>
          </a:xfrm>
          <a:custGeom>
            <a:avLst/>
            <a:gdLst/>
            <a:ahLst/>
            <a:rect l="l" t="t" r="r" b="b"/>
            <a:pathLst>
              <a:path stroke="0" w="498475" h="192088">
                <a:moveTo>
                  <a:pt x="249237" y="0"/>
                </a:moveTo>
                <a:cubicBezTo>
                  <a:pt x="386887" y="0"/>
                  <a:pt x="498475" y="43000"/>
                  <a:pt x="498475" y="96044"/>
                </a:cubicBezTo>
                <a:lnTo>
                  <a:pt x="249238" y="96044"/>
                </a:lnTo>
                <a:cubicBezTo>
                  <a:pt x="249238" y="64029"/>
                  <a:pt x="249237" y="32015"/>
                  <a:pt x="249237" y="0"/>
                </a:cubicBezTo>
                <a:close/>
              </a:path>
              <a:path fill="none" w="498475" h="192088">
                <a:moveTo>
                  <a:pt x="249237" y="0"/>
                </a:moveTo>
                <a:cubicBezTo>
                  <a:pt x="386887" y="0"/>
                  <a:pt x="498475" y="43000"/>
                  <a:pt x="498475" y="96044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56800" y="2571840"/>
            <a:ext cx="782964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А      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˚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?                О               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˚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С                                         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Заголовок 3" descr=""/>
          <p:cNvPicPr/>
          <p:nvPr/>
        </p:nvPicPr>
        <p:blipFill>
          <a:blip r:embed="rId1"/>
          <a:stretch/>
        </p:blipFill>
        <p:spPr>
          <a:xfrm>
            <a:off x="457200" y="858960"/>
            <a:ext cx="8229600" cy="1201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5"/>
          <p:cNvSpPr/>
          <p:nvPr/>
        </p:nvSpPr>
        <p:spPr>
          <a:xfrm>
            <a:off x="2357280" y="3214800"/>
            <a:ext cx="3571920" cy="21430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7"/>
          <p:cNvSpPr/>
          <p:nvPr/>
        </p:nvSpPr>
        <p:spPr>
          <a:xfrm flipH="1">
            <a:off x="2571480" y="2999520"/>
            <a:ext cx="3214440" cy="24289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0"/>
          <p:cNvSpPr/>
          <p:nvPr/>
        </p:nvSpPr>
        <p:spPr>
          <a:xfrm>
            <a:off x="3999960" y="2571840"/>
            <a:ext cx="214200" cy="3000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Дуга 11"/>
          <p:cNvSpPr/>
          <p:nvPr/>
        </p:nvSpPr>
        <p:spPr>
          <a:xfrm>
            <a:off x="3786120" y="3786120"/>
            <a:ext cx="642960" cy="428760"/>
          </a:xfrm>
          <a:custGeom>
            <a:avLst/>
            <a:gdLst/>
            <a:ahLst/>
            <a:rect l="l" t="t" r="r" b="b"/>
            <a:pathLst>
              <a:path stroke="0" w="642937" h="428625">
                <a:moveTo>
                  <a:pt x="321468" y="0"/>
                </a:moveTo>
                <a:cubicBezTo>
                  <a:pt x="499010" y="0"/>
                  <a:pt x="642937" y="95951"/>
                  <a:pt x="642937" y="214313"/>
                </a:cubicBezTo>
                <a:lnTo>
                  <a:pt x="321469" y="214313"/>
                </a:lnTo>
                <a:cubicBezTo>
                  <a:pt x="321469" y="142875"/>
                  <a:pt x="321468" y="71438"/>
                  <a:pt x="321468" y="0"/>
                </a:cubicBezTo>
                <a:close/>
              </a:path>
              <a:path fill="none" w="642937" h="428625">
                <a:moveTo>
                  <a:pt x="321468" y="0"/>
                </a:moveTo>
                <a:cubicBezTo>
                  <a:pt x="499010" y="0"/>
                  <a:pt x="642937" y="95951"/>
                  <a:pt x="642937" y="214313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Дуга 12"/>
          <p:cNvSpPr/>
          <p:nvPr/>
        </p:nvSpPr>
        <p:spPr>
          <a:xfrm>
            <a:off x="2643120" y="3214800"/>
            <a:ext cx="2857680" cy="2428920"/>
          </a:xfrm>
          <a:custGeom>
            <a:avLst/>
            <a:gdLst/>
            <a:ahLst/>
            <a:rect l="l" t="t" r="r" b="b"/>
            <a:pathLst>
              <a:path stroke="0" w="2857500" h="2428875">
                <a:moveTo>
                  <a:pt x="1428750" y="0"/>
                </a:moveTo>
                <a:cubicBezTo>
                  <a:pt x="1871828" y="0"/>
                  <a:pt x="2289833" y="174731"/>
                  <a:pt x="2560335" y="473015"/>
                </a:cubicBezTo>
                <a:cubicBezTo>
                  <a:pt x="2897977" y="845334"/>
                  <a:pt x="2952500" y="1349845"/>
                  <a:pt x="2700310" y="1768219"/>
                </a:cubicBezTo>
                <a:lnTo>
                  <a:pt x="1428750" y="1214438"/>
                </a:lnTo>
                <a:lnTo>
                  <a:pt x="1428750" y="0"/>
                </a:lnTo>
                <a:close/>
              </a:path>
              <a:path fill="none" w="2857500" h="2428875">
                <a:moveTo>
                  <a:pt x="1428750" y="0"/>
                </a:moveTo>
                <a:cubicBezTo>
                  <a:pt x="1871828" y="0"/>
                  <a:pt x="2289833" y="174731"/>
                  <a:pt x="2560335" y="473015"/>
                </a:cubicBezTo>
                <a:cubicBezTo>
                  <a:pt x="2897977" y="845334"/>
                  <a:pt x="2952500" y="1349845"/>
                  <a:pt x="2700310" y="1768219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Дуга 13"/>
          <p:cNvSpPr/>
          <p:nvPr/>
        </p:nvSpPr>
        <p:spPr>
          <a:xfrm rot="12704400">
            <a:off x="3187440" y="3012840"/>
            <a:ext cx="1409760" cy="1928520"/>
          </a:xfrm>
          <a:custGeom>
            <a:avLst/>
            <a:gdLst/>
            <a:ahLst/>
            <a:rect l="l" t="t" r="r" b="b"/>
            <a:pathLst>
              <a:path stroke="0" w="1409700" h="1928813">
                <a:moveTo>
                  <a:pt x="704850" y="0"/>
                </a:moveTo>
                <a:cubicBezTo>
                  <a:pt x="1051341" y="0"/>
                  <a:pt x="1346446" y="344570"/>
                  <a:pt x="1400931" y="812756"/>
                </a:cubicBezTo>
                <a:lnTo>
                  <a:pt x="704850" y="964407"/>
                </a:lnTo>
                <a:lnTo>
                  <a:pt x="704850" y="0"/>
                </a:lnTo>
                <a:close/>
              </a:path>
              <a:path fill="none" w="1409700" h="1928813">
                <a:moveTo>
                  <a:pt x="704850" y="0"/>
                </a:moveTo>
                <a:cubicBezTo>
                  <a:pt x="1051341" y="0"/>
                  <a:pt x="1346446" y="344570"/>
                  <a:pt x="1400931" y="812756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18:44Z</dcterms:created>
  <dc:creator>Speed_XP</dc:creator>
  <dc:description/>
  <dc:language>en-US</dc:language>
  <cp:lastModifiedBy>Сш3-00</cp:lastModifiedBy>
  <dcterms:modified xsi:type="dcterms:W3CDTF">2015-04-03T11:42:39Z</dcterms:modified>
  <cp:revision>24</cp:revision>
  <dc:subject/>
  <dc:title>Слайд 1</dc:title>
</cp:coreProperties>
</file>