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09C-E132-49A4-BD89-7B10EAA6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C68-C80B-4A4F-B366-4C24E6D2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855-432C-40DF-A7D9-B3A12CD3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7CE-3F5C-427D-B994-A6DA9AE2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A572-7736-48FF-A732-877246A0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C7DD-C985-4057-B489-02026A2D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C89F-B001-4D83-8C35-B228681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8591-4215-4600-8D7E-7DC52265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C59C-9999-4960-94DF-539204F4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9F08-D12D-4920-B03F-213D000A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C4BD-4DE4-449D-8EB2-76291509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FB2-D875-4AD4-96CB-35971880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FF9B-8DC2-4B6C-ACA7-7257A661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527D-7045-4FF6-8E7C-98218164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BF4A-472B-4CE0-833B-9EF644FC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5E81-756B-49E3-A620-345622E7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2728-F61B-4378-9FB4-9F87C68C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00C65-FB4D-4CE2-A163-52303BDE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B090-6174-46A6-86C1-7B8BE3F0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15BD-D221-448B-BC12-6D08CCB8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F909-DC9D-458F-892E-D4BB88E2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3EC5-525B-46D8-963D-DC48C413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15A-70C7-440D-B290-2ABCCF2E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C86C-8E00-41A1-864F-A313E046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5F88-6EC9-41A3-AA8F-80074037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23980-E72B-465F-BA62-8337B985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9416-9E46-49F6-800B-39AE1568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1CCD-8C3B-4C4B-9AF0-652D2B6E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0B17-B85A-4404-A1D8-1F2BF872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D79E-0217-4DBE-98BD-4E41462C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3E76-8156-4807-8005-701D5A6C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ED234-69FD-460D-A719-2AA31B6B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FD316-8633-4BEC-9551-E3829B28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DEB-EEEC-4202-8FE9-4195379C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5A566-C67D-43D1-A836-FE72C0C5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8A971-CE8C-4308-9E47-21958A7A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8F5D-C422-44FF-A788-D45C77C1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6FD8-AAD8-4A92-A3F7-AF50CC71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FF5A1-9C61-4EF9-8E72-33D0BBF3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2203A-079A-48C2-97FF-3BFC1B8E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2147-4E31-4959-BFFE-77B031A7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EE919-C8F5-47D8-86CA-C7EFBF85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FA42E-C9E9-4B0C-A425-60948741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B42-3EE3-4E6D-AF1D-72C393D5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C68-8F5A-4893-8106-F6B0DB54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959-E7A2-4EDB-8495-8A924120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609-07D4-4618-BFB2-99713D11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D53-F4D9-43D4-AB3B-8E6F2C9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8763-B4EE-4E5A-8802-98274673954F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5E8E-18FD-4ED9-9B31-C35E7E73205A}" type="slidenum"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C6AF-5C5C-44A0-BDB7-B64BDC6DAD76}" type="slidenum"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ED51-1065-456B-92F6-D969B986073E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6" descr=""/>
          <p:cNvPicPr/>
          <p:nvPr/>
        </p:nvPicPr>
        <p:blipFill>
          <a:blip r:embed="rId1"/>
          <a:stretch/>
        </p:blipFill>
        <p:spPr>
          <a:xfrm>
            <a:off x="828720" y="1773360"/>
            <a:ext cx="75722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8800" y="785880"/>
            <a:ext cx="77580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5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абақты бекіту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гісіз бұрыштың шамасы қандай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˚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28˚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52˚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153˚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иылысқан түзулер жазықтықты неше бұрышқа бөледі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4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Прямая соединительная линия 4"/>
          <p:cNvSpPr/>
          <p:nvPr/>
        </p:nvSpPr>
        <p:spPr>
          <a:xfrm>
            <a:off x="1714680" y="2143080"/>
            <a:ext cx="2500200" cy="12146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6"/>
          <p:cNvSpPr/>
          <p:nvPr/>
        </p:nvSpPr>
        <p:spPr>
          <a:xfrm flipH="1">
            <a:off x="1643040" y="2571840"/>
            <a:ext cx="2643120" cy="4284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Дуга 13"/>
          <p:cNvSpPr/>
          <p:nvPr/>
        </p:nvSpPr>
        <p:spPr>
          <a:xfrm>
            <a:off x="3357720" y="2714760"/>
            <a:ext cx="142560" cy="642960"/>
          </a:xfrm>
          <a:custGeom>
            <a:avLst/>
            <a:gdLst/>
            <a:ahLst/>
            <a:rect l="l" t="t" r="r" b="b"/>
            <a:pathLst>
              <a:path stroke="0" w="142875" h="642938">
                <a:moveTo>
                  <a:pt x="71437" y="0"/>
                </a:moveTo>
                <a:cubicBezTo>
                  <a:pt x="110891" y="0"/>
                  <a:pt x="142875" y="143927"/>
                  <a:pt x="142875" y="321469"/>
                </a:cubicBezTo>
                <a:lnTo>
                  <a:pt x="71438" y="321469"/>
                </a:lnTo>
                <a:cubicBezTo>
                  <a:pt x="71438" y="214313"/>
                  <a:pt x="71437" y="107156"/>
                  <a:pt x="71437" y="0"/>
                </a:cubicBezTo>
                <a:close/>
              </a:path>
              <a:path fill="none" w="142875" h="642938">
                <a:moveTo>
                  <a:pt x="71437" y="0"/>
                </a:moveTo>
                <a:cubicBezTo>
                  <a:pt x="110891" y="0"/>
                  <a:pt x="142875" y="143927"/>
                  <a:pt x="142875" y="321469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Дуга 14"/>
          <p:cNvSpPr/>
          <p:nvPr/>
        </p:nvSpPr>
        <p:spPr>
          <a:xfrm flipH="1" flipV="1" rot="1968600">
            <a:off x="2282040" y="2279520"/>
            <a:ext cx="428760" cy="642960"/>
          </a:xfrm>
          <a:custGeom>
            <a:avLst/>
            <a:gdLst/>
            <a:ahLst/>
            <a:rect l="l" t="t" r="r" b="b"/>
            <a:pathLst>
              <a:path stroke="0" w="428625" h="642938">
                <a:moveTo>
                  <a:pt x="214312" y="0"/>
                </a:moveTo>
                <a:cubicBezTo>
                  <a:pt x="332674" y="0"/>
                  <a:pt x="428625" y="143927"/>
                  <a:pt x="428625" y="321469"/>
                </a:cubicBezTo>
                <a:lnTo>
                  <a:pt x="214313" y="321469"/>
                </a:lnTo>
                <a:cubicBezTo>
                  <a:pt x="214313" y="214313"/>
                  <a:pt x="214312" y="107156"/>
                  <a:pt x="214312" y="0"/>
                </a:cubicBezTo>
                <a:close/>
              </a:path>
              <a:path fill="none" w="428625" h="642938">
                <a:moveTo>
                  <a:pt x="214312" y="0"/>
                </a:moveTo>
                <a:cubicBezTo>
                  <a:pt x="332674" y="0"/>
                  <a:pt x="428625" y="143927"/>
                  <a:pt x="428625" y="321469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Блок-схема: узел 15"/>
          <p:cNvSpPr/>
          <p:nvPr/>
        </p:nvSpPr>
        <p:spPr>
          <a:xfrm>
            <a:off x="2857680" y="2714760"/>
            <a:ext cx="21420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Қиылысу нүктесін а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      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Прямая соединительная линия 4"/>
          <p:cNvSpPr/>
          <p:nvPr/>
        </p:nvSpPr>
        <p:spPr>
          <a:xfrm>
            <a:off x="1428840" y="1643040"/>
            <a:ext cx="2286000" cy="12146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6"/>
          <p:cNvSpPr/>
          <p:nvPr/>
        </p:nvSpPr>
        <p:spPr>
          <a:xfrm flipH="1">
            <a:off x="1642680" y="1499400"/>
            <a:ext cx="1785960" cy="14288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Блок-схема: узел 8"/>
          <p:cNvSpPr/>
          <p:nvPr/>
        </p:nvSpPr>
        <p:spPr>
          <a:xfrm>
            <a:off x="2428920" y="2143080"/>
            <a:ext cx="21420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уреттен вертикаль бұрыштарды көрс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             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2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1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1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Прямая соединительная линия 4"/>
          <p:cNvSpPr/>
          <p:nvPr/>
        </p:nvSpPr>
        <p:spPr>
          <a:xfrm>
            <a:off x="1928880" y="1714680"/>
            <a:ext cx="2214360" cy="10713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6"/>
          <p:cNvSpPr/>
          <p:nvPr/>
        </p:nvSpPr>
        <p:spPr>
          <a:xfrm flipH="1">
            <a:off x="1928520" y="1571760"/>
            <a:ext cx="2143080" cy="12859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Блок-схема: узел 8"/>
          <p:cNvSpPr/>
          <p:nvPr/>
        </p:nvSpPr>
        <p:spPr>
          <a:xfrm>
            <a:off x="2928960" y="2214720"/>
            <a:ext cx="142920" cy="14256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               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                    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 бұрышына тең бұрышты та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Прямая соединительная линия 4"/>
          <p:cNvSpPr/>
          <p:nvPr/>
        </p:nvSpPr>
        <p:spPr>
          <a:xfrm>
            <a:off x="1500120" y="1285920"/>
            <a:ext cx="2357640" cy="13572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6"/>
          <p:cNvSpPr/>
          <p:nvPr/>
        </p:nvSpPr>
        <p:spPr>
          <a:xfrm flipH="1">
            <a:off x="1500120" y="928080"/>
            <a:ext cx="2286000" cy="1857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лок-схема: узел 7"/>
          <p:cNvSpPr/>
          <p:nvPr/>
        </p:nvSpPr>
        <p:spPr>
          <a:xfrm>
            <a:off x="2500200" y="185724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8"/>
          <p:cNvSpPr/>
          <p:nvPr/>
        </p:nvSpPr>
        <p:spPr>
          <a:xfrm>
            <a:off x="1071720" y="3500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Тест жауаптары:</a:t>
            </a:r>
            <a:endParaRPr b="0" lang="en-US" sz="48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5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       </a:t>
            </a:r>
            <a:r>
              <a:rPr b="0" i="1" lang="kk-KZ" sz="5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Үйге тапсырма: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№</a:t>
            </a:r>
            <a:r>
              <a:rPr b="0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0, №1071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400" y="7045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Үй тапсырмасын сұрау</a:t>
            </a:r>
            <a:endParaRPr b="0" lang="en-US" sz="48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8400" y="2000160"/>
            <a:ext cx="8258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0" descr="SO00483_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6548400" y="5000760"/>
            <a:ext cx="2166840" cy="1541160"/>
          </a:xfrm>
          <a:prstGeom prst="rect">
            <a:avLst/>
          </a:prstGeom>
          <a:ln w="0">
            <a:noFill/>
          </a:ln>
        </p:spPr>
      </p:pic>
      <p:sp>
        <p:nvSpPr>
          <p:cNvPr id="208" name="Блок-схема: узел 4"/>
          <p:cNvSpPr/>
          <p:nvPr/>
        </p:nvSpPr>
        <p:spPr>
          <a:xfrm>
            <a:off x="500040" y="2357280"/>
            <a:ext cx="142920" cy="14292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6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6632640" cy="523800"/>
          </a:xfrm>
          <a:prstGeom prst="rect">
            <a:avLst/>
          </a:prstGeom>
          <a:ln w="0">
            <a:noFill/>
          </a:ln>
        </p:spPr>
      </p:pic>
      <p:sp>
        <p:nvSpPr>
          <p:cNvPr id="210" name="Блок-схема: узел 9"/>
          <p:cNvSpPr/>
          <p:nvPr/>
        </p:nvSpPr>
        <p:spPr>
          <a:xfrm flipV="1">
            <a:off x="500040" y="3142440"/>
            <a:ext cx="142920" cy="14292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Прямоугольник 10" descr=""/>
          <p:cNvPicPr/>
          <p:nvPr/>
        </p:nvPicPr>
        <p:blipFill>
          <a:blip r:embed="rId3"/>
          <a:stretch/>
        </p:blipFill>
        <p:spPr>
          <a:xfrm>
            <a:off x="1712880" y="3071880"/>
            <a:ext cx="50356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Блок-схема: узел 3"/>
          <p:cNvSpPr/>
          <p:nvPr/>
        </p:nvSpPr>
        <p:spPr>
          <a:xfrm>
            <a:off x="1357200" y="2214720"/>
            <a:ext cx="142920" cy="14256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Блок-схема: узел 5"/>
          <p:cNvSpPr/>
          <p:nvPr/>
        </p:nvSpPr>
        <p:spPr>
          <a:xfrm>
            <a:off x="3500280" y="2214720"/>
            <a:ext cx="142920" cy="142560"/>
          </a:xfrm>
          <a:prstGeom prst="flowChartConnector">
            <a:avLst/>
          </a:prstGeom>
          <a:solidFill>
            <a:srgbClr val="00206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Прямоугольник 6" descr=""/>
          <p:cNvPicPr/>
          <p:nvPr/>
        </p:nvPicPr>
        <p:blipFill>
          <a:blip r:embed="rId1"/>
          <a:stretch/>
        </p:blipFill>
        <p:spPr>
          <a:xfrm>
            <a:off x="1047600" y="1212840"/>
            <a:ext cx="605160" cy="9507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8" descr=""/>
          <p:cNvPicPr/>
          <p:nvPr/>
        </p:nvPicPr>
        <p:blipFill>
          <a:blip r:embed="rId2"/>
          <a:stretch/>
        </p:blipFill>
        <p:spPr>
          <a:xfrm>
            <a:off x="3322800" y="1200240"/>
            <a:ext cx="554040" cy="9525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ая соединительная линия 10"/>
          <p:cNvSpPr/>
          <p:nvPr/>
        </p:nvSpPr>
        <p:spPr>
          <a:xfrm>
            <a:off x="714240" y="2286000"/>
            <a:ext cx="392904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13"/>
          <p:cNvSpPr/>
          <p:nvPr/>
        </p:nvSpPr>
        <p:spPr>
          <a:xfrm>
            <a:off x="5643720" y="2714760"/>
            <a:ext cx="20001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14"/>
          <p:cNvSpPr/>
          <p:nvPr/>
        </p:nvSpPr>
        <p:spPr>
          <a:xfrm flipV="1">
            <a:off x="5214960" y="4928760"/>
            <a:ext cx="228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16" descr=""/>
          <p:cNvPicPr/>
          <p:nvPr/>
        </p:nvPicPr>
        <p:blipFill>
          <a:blip r:embed="rId3"/>
          <a:stretch/>
        </p:blipFill>
        <p:spPr>
          <a:xfrm>
            <a:off x="7351560" y="3144960"/>
            <a:ext cx="444600" cy="92052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17" descr=""/>
          <p:cNvPicPr/>
          <p:nvPr/>
        </p:nvPicPr>
        <p:blipFill>
          <a:blip r:embed="rId4"/>
          <a:stretch/>
        </p:blipFill>
        <p:spPr>
          <a:xfrm>
            <a:off x="6424560" y="4145040"/>
            <a:ext cx="506520" cy="920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3920" y="2857680"/>
            <a:ext cx="254340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1-</a:t>
            </a: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урет</a:t>
            </a:r>
            <a:endParaRPr b="0" lang="en-US" sz="32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5429160" y="5500800"/>
            <a:ext cx="25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   </a:t>
            </a: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-</a:t>
            </a: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у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0"/>
          <p:cNvSpPr/>
          <p:nvPr/>
        </p:nvSpPr>
        <p:spPr>
          <a:xfrm flipV="1">
            <a:off x="4357800" y="4857840"/>
            <a:ext cx="27144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7580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Қиылысатын екі түзудің ортақ бір ғана нүктесі болады</a:t>
            </a:r>
            <a:endParaRPr b="0" lang="en-US" sz="24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                                b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kk-K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kk-K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                   b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              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Прямая соединительная линия 4"/>
          <p:cNvSpPr/>
          <p:nvPr/>
        </p:nvSpPr>
        <p:spPr>
          <a:xfrm>
            <a:off x="785880" y="2286000"/>
            <a:ext cx="2786040" cy="20718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6"/>
          <p:cNvSpPr/>
          <p:nvPr/>
        </p:nvSpPr>
        <p:spPr>
          <a:xfrm flipH="1">
            <a:off x="357120" y="2428200"/>
            <a:ext cx="3857760" cy="17859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Блок-схема: узел 7"/>
          <p:cNvSpPr/>
          <p:nvPr/>
        </p:nvSpPr>
        <p:spPr>
          <a:xfrm>
            <a:off x="2071800" y="3286080"/>
            <a:ext cx="21420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2"/>
          <p:cNvSpPr/>
          <p:nvPr/>
        </p:nvSpPr>
        <p:spPr>
          <a:xfrm flipH="1">
            <a:off x="4286160" y="3714120"/>
            <a:ext cx="3857760" cy="17859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3"/>
          <p:cNvSpPr/>
          <p:nvPr/>
        </p:nvSpPr>
        <p:spPr>
          <a:xfrm>
            <a:off x="4572000" y="3429000"/>
            <a:ext cx="2786040" cy="20718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5480" y="1071720"/>
            <a:ext cx="8543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ір бұрыштың қабырғалары, екінші бұрыштың қабырғаларымен толықтауыш  сәулелер болатын екі бұрыш </a:t>
            </a:r>
            <a:br>
              <a:rPr sz="3200"/>
            </a:br>
            <a:r>
              <a:rPr b="1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тикаль бұрыштар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еп аталады.</a:t>
            </a:r>
            <a:br>
              <a:rPr sz="3200"/>
            </a:br>
            <a:br>
              <a:rPr sz="3200"/>
            </a:br>
            <a:r>
              <a:rPr b="0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тикаль бұрыштар өзара тең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0" y="2714400"/>
            <a:ext cx="357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3" name="Прямая соединительная линия 4"/>
          <p:cNvSpPr/>
          <p:nvPr/>
        </p:nvSpPr>
        <p:spPr>
          <a:xfrm>
            <a:off x="1714680" y="3571920"/>
            <a:ext cx="457200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5"/>
          <p:cNvSpPr/>
          <p:nvPr/>
        </p:nvSpPr>
        <p:spPr>
          <a:xfrm>
            <a:off x="1714680" y="5500800"/>
            <a:ext cx="457200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9"/>
          <p:cNvSpPr/>
          <p:nvPr/>
        </p:nvSpPr>
        <p:spPr>
          <a:xfrm>
            <a:off x="2214720" y="2857680"/>
            <a:ext cx="3357360" cy="32860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12"/>
          <p:cNvSpPr/>
          <p:nvPr/>
        </p:nvSpPr>
        <p:spPr>
          <a:xfrm flipH="1">
            <a:off x="2357280" y="2928960"/>
            <a:ext cx="3214800" cy="32860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Блок-схема: узел 13"/>
          <p:cNvSpPr/>
          <p:nvPr/>
        </p:nvSpPr>
        <p:spPr>
          <a:xfrm>
            <a:off x="2857680" y="3500280"/>
            <a:ext cx="14256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Блок-схема: узел 14"/>
          <p:cNvSpPr/>
          <p:nvPr/>
        </p:nvSpPr>
        <p:spPr>
          <a:xfrm>
            <a:off x="4929120" y="350028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Блок-схема: узел 15"/>
          <p:cNvSpPr/>
          <p:nvPr/>
        </p:nvSpPr>
        <p:spPr>
          <a:xfrm>
            <a:off x="3929040" y="4500720"/>
            <a:ext cx="142920" cy="14256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Блок-схема: узел 17"/>
          <p:cNvSpPr/>
          <p:nvPr/>
        </p:nvSpPr>
        <p:spPr>
          <a:xfrm>
            <a:off x="3000240" y="542916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Блок-схема: узел 18"/>
          <p:cNvSpPr/>
          <p:nvPr/>
        </p:nvSpPr>
        <p:spPr>
          <a:xfrm>
            <a:off x="4857840" y="542916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1"/>
          <p:cNvSpPr/>
          <p:nvPr/>
        </p:nvSpPr>
        <p:spPr>
          <a:xfrm>
            <a:off x="5143680" y="278604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6000840" y="50007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Заголовок 1"/>
          <p:cNvSpPr/>
          <p:nvPr/>
        </p:nvSpPr>
        <p:spPr>
          <a:xfrm>
            <a:off x="6000840" y="3071880"/>
            <a:ext cx="285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Заголовок 1"/>
          <p:cNvSpPr/>
          <p:nvPr/>
        </p:nvSpPr>
        <p:spPr>
          <a:xfrm>
            <a:off x="2928960" y="31431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Заголовок 1"/>
          <p:cNvSpPr/>
          <p:nvPr/>
        </p:nvSpPr>
        <p:spPr>
          <a:xfrm>
            <a:off x="4643280" y="3000240"/>
            <a:ext cx="357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Заголовок 1"/>
          <p:cNvSpPr/>
          <p:nvPr/>
        </p:nvSpPr>
        <p:spPr>
          <a:xfrm>
            <a:off x="3786120" y="3857760"/>
            <a:ext cx="357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3000240" y="571500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4643280" y="5643720"/>
            <a:ext cx="357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Прямоугольник 27" descr=""/>
          <p:cNvPicPr/>
          <p:nvPr/>
        </p:nvPicPr>
        <p:blipFill>
          <a:blip r:embed="rId1"/>
          <a:stretch/>
        </p:blipFill>
        <p:spPr>
          <a:xfrm>
            <a:off x="785880" y="858960"/>
            <a:ext cx="78580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13920" y="3071520"/>
            <a:ext cx="747252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     3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                 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Заголовок 3" descr=""/>
          <p:cNvPicPr/>
          <p:nvPr/>
        </p:nvPicPr>
        <p:blipFill>
          <a:blip r:embed="rId1"/>
          <a:stretch/>
        </p:blipFill>
        <p:spPr>
          <a:xfrm>
            <a:off x="639720" y="712800"/>
            <a:ext cx="8047080" cy="19382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ая соединительная линия 5"/>
          <p:cNvSpPr/>
          <p:nvPr/>
        </p:nvSpPr>
        <p:spPr>
          <a:xfrm>
            <a:off x="3071880" y="3500280"/>
            <a:ext cx="3000240" cy="18576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7"/>
          <p:cNvSpPr/>
          <p:nvPr/>
        </p:nvSpPr>
        <p:spPr>
          <a:xfrm flipV="1">
            <a:off x="2500200" y="4428720"/>
            <a:ext cx="4214880" cy="716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9"/>
          <p:cNvSpPr/>
          <p:nvPr/>
        </p:nvSpPr>
        <p:spPr>
          <a:xfrm flipH="1">
            <a:off x="3642840" y="3071880"/>
            <a:ext cx="2000520" cy="26431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56800" y="2857680"/>
            <a:ext cx="782964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    1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    O     2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Заголовок 3" descr=""/>
          <p:cNvPicPr/>
          <p:nvPr/>
        </p:nvPicPr>
        <p:blipFill>
          <a:blip r:embed="rId1"/>
          <a:stretch/>
        </p:blipFill>
        <p:spPr>
          <a:xfrm>
            <a:off x="500040" y="927000"/>
            <a:ext cx="8229600" cy="15717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ая соединительная линия 5"/>
          <p:cNvSpPr/>
          <p:nvPr/>
        </p:nvSpPr>
        <p:spPr>
          <a:xfrm>
            <a:off x="3071880" y="3214800"/>
            <a:ext cx="2000160" cy="25714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7"/>
          <p:cNvSpPr/>
          <p:nvPr/>
        </p:nvSpPr>
        <p:spPr>
          <a:xfrm>
            <a:off x="3857760" y="3000240"/>
            <a:ext cx="357120" cy="30006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Дуга 11"/>
          <p:cNvSpPr/>
          <p:nvPr/>
        </p:nvSpPr>
        <p:spPr>
          <a:xfrm flipV="1" rot="10505400">
            <a:off x="3707280" y="3876480"/>
            <a:ext cx="442440" cy="176040"/>
          </a:xfrm>
          <a:custGeom>
            <a:avLst/>
            <a:gdLst/>
            <a:ahLst/>
            <a:rect l="l" t="t" r="r" b="b"/>
            <a:pathLst>
              <a:path stroke="0" w="442912" h="176213">
                <a:moveTo>
                  <a:pt x="221456" y="0"/>
                </a:moveTo>
                <a:cubicBezTo>
                  <a:pt x="343763" y="0"/>
                  <a:pt x="442912" y="39447"/>
                  <a:pt x="442912" y="88107"/>
                </a:cubicBezTo>
                <a:lnTo>
                  <a:pt x="221456" y="88107"/>
                </a:lnTo>
                <a:lnTo>
                  <a:pt x="221456" y="0"/>
                </a:lnTo>
                <a:close/>
              </a:path>
              <a:path fill="none" w="442912" h="176213">
                <a:moveTo>
                  <a:pt x="221456" y="0"/>
                </a:moveTo>
                <a:cubicBezTo>
                  <a:pt x="343763" y="0"/>
                  <a:pt x="442912" y="39447"/>
                  <a:pt x="442912" y="88107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Дуга 12"/>
          <p:cNvSpPr/>
          <p:nvPr/>
        </p:nvSpPr>
        <p:spPr>
          <a:xfrm flipH="1" flipV="1" rot="9153600">
            <a:off x="3610800" y="3767040"/>
            <a:ext cx="611280" cy="1564920"/>
          </a:xfrm>
          <a:custGeom>
            <a:avLst/>
            <a:gdLst/>
            <a:ahLst/>
            <a:rect l="l" t="t" r="r" b="b"/>
            <a:pathLst>
              <a:path stroke="0" w="611187" h="1565275">
                <a:moveTo>
                  <a:pt x="589515" y="493162"/>
                </a:moveTo>
                <a:cubicBezTo>
                  <a:pt x="604222" y="587772"/>
                  <a:pt x="611578" y="688822"/>
                  <a:pt x="611171" y="790648"/>
                </a:cubicBezTo>
                <a:cubicBezTo>
                  <a:pt x="610746" y="896964"/>
                  <a:pt x="601867" y="1001944"/>
                  <a:pt x="585076" y="1099182"/>
                </a:cubicBezTo>
                <a:lnTo>
                  <a:pt x="305594" y="782638"/>
                </a:lnTo>
                <a:lnTo>
                  <a:pt x="589515" y="493162"/>
                </a:lnTo>
                <a:close/>
              </a:path>
              <a:path fill="none" w="611187" h="1565275">
                <a:moveTo>
                  <a:pt x="589515" y="493162"/>
                </a:moveTo>
                <a:cubicBezTo>
                  <a:pt x="604222" y="587772"/>
                  <a:pt x="611578" y="688822"/>
                  <a:pt x="611171" y="790648"/>
                </a:cubicBezTo>
                <a:cubicBezTo>
                  <a:pt x="610746" y="896964"/>
                  <a:pt x="601867" y="1001944"/>
                  <a:pt x="585076" y="1099182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Дуга 13"/>
          <p:cNvSpPr/>
          <p:nvPr/>
        </p:nvSpPr>
        <p:spPr>
          <a:xfrm flipH="1" flipV="1" rot="20327400">
            <a:off x="3874320" y="3595320"/>
            <a:ext cx="774720" cy="1465560"/>
          </a:xfrm>
          <a:custGeom>
            <a:avLst/>
            <a:gdLst/>
            <a:ahLst/>
            <a:rect l="l" t="t" r="r" b="b"/>
            <a:pathLst>
              <a:path stroke="0" w="774700" h="1465262">
                <a:moveTo>
                  <a:pt x="728316" y="384995"/>
                </a:moveTo>
                <a:cubicBezTo>
                  <a:pt x="780200" y="567044"/>
                  <a:pt x="788987" y="782089"/>
                  <a:pt x="752507" y="977054"/>
                </a:cubicBezTo>
                <a:lnTo>
                  <a:pt x="387350" y="732631"/>
                </a:lnTo>
                <a:lnTo>
                  <a:pt x="728316" y="384995"/>
                </a:lnTo>
                <a:close/>
              </a:path>
              <a:path fill="none" w="774700" h="1465262">
                <a:moveTo>
                  <a:pt x="728316" y="384995"/>
                </a:moveTo>
                <a:cubicBezTo>
                  <a:pt x="780200" y="567044"/>
                  <a:pt x="788987" y="782089"/>
                  <a:pt x="752507" y="977054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Дуга 14"/>
          <p:cNvSpPr/>
          <p:nvPr/>
        </p:nvSpPr>
        <p:spPr>
          <a:xfrm flipH="1" rot="10505400">
            <a:off x="3865680" y="4806000"/>
            <a:ext cx="498240" cy="192240"/>
          </a:xfrm>
          <a:custGeom>
            <a:avLst/>
            <a:gdLst/>
            <a:ahLst/>
            <a:rect l="l" t="t" r="r" b="b"/>
            <a:pathLst>
              <a:path stroke="0" w="498475" h="192088">
                <a:moveTo>
                  <a:pt x="249237" y="0"/>
                </a:moveTo>
                <a:cubicBezTo>
                  <a:pt x="386887" y="0"/>
                  <a:pt x="498475" y="43000"/>
                  <a:pt x="498475" y="96044"/>
                </a:cubicBezTo>
                <a:lnTo>
                  <a:pt x="249238" y="96044"/>
                </a:lnTo>
                <a:cubicBezTo>
                  <a:pt x="249238" y="64029"/>
                  <a:pt x="249237" y="32015"/>
                  <a:pt x="249237" y="0"/>
                </a:cubicBezTo>
                <a:close/>
              </a:path>
              <a:path fill="none" w="498475" h="192088">
                <a:moveTo>
                  <a:pt x="249237" y="0"/>
                </a:moveTo>
                <a:cubicBezTo>
                  <a:pt x="386887" y="0"/>
                  <a:pt x="498475" y="43000"/>
                  <a:pt x="498475" y="96044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56800" y="2571840"/>
            <a:ext cx="782964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А      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˚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?                О                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˚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С                                         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Заголовок 3" descr=""/>
          <p:cNvPicPr/>
          <p:nvPr/>
        </p:nvPicPr>
        <p:blipFill>
          <a:blip r:embed="rId1"/>
          <a:stretch/>
        </p:blipFill>
        <p:spPr>
          <a:xfrm>
            <a:off x="457200" y="858960"/>
            <a:ext cx="8229600" cy="1201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ая соединительная линия 5"/>
          <p:cNvSpPr/>
          <p:nvPr/>
        </p:nvSpPr>
        <p:spPr>
          <a:xfrm>
            <a:off x="2357280" y="3214800"/>
            <a:ext cx="3571920" cy="21430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7"/>
          <p:cNvSpPr/>
          <p:nvPr/>
        </p:nvSpPr>
        <p:spPr>
          <a:xfrm flipH="1">
            <a:off x="2571480" y="2999520"/>
            <a:ext cx="3214440" cy="24289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0"/>
          <p:cNvSpPr/>
          <p:nvPr/>
        </p:nvSpPr>
        <p:spPr>
          <a:xfrm>
            <a:off x="3999960" y="2571840"/>
            <a:ext cx="214200" cy="3000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Дуга 11"/>
          <p:cNvSpPr/>
          <p:nvPr/>
        </p:nvSpPr>
        <p:spPr>
          <a:xfrm>
            <a:off x="3786120" y="3786120"/>
            <a:ext cx="642960" cy="428760"/>
          </a:xfrm>
          <a:custGeom>
            <a:avLst/>
            <a:gdLst/>
            <a:ahLst/>
            <a:rect l="l" t="t" r="r" b="b"/>
            <a:pathLst>
              <a:path stroke="0" w="642937" h="428625">
                <a:moveTo>
                  <a:pt x="321468" y="0"/>
                </a:moveTo>
                <a:cubicBezTo>
                  <a:pt x="499010" y="0"/>
                  <a:pt x="642937" y="95951"/>
                  <a:pt x="642937" y="214313"/>
                </a:cubicBezTo>
                <a:lnTo>
                  <a:pt x="321469" y="214313"/>
                </a:lnTo>
                <a:cubicBezTo>
                  <a:pt x="321469" y="142875"/>
                  <a:pt x="321468" y="71438"/>
                  <a:pt x="321468" y="0"/>
                </a:cubicBezTo>
                <a:close/>
              </a:path>
              <a:path fill="none" w="642937" h="428625">
                <a:moveTo>
                  <a:pt x="321468" y="0"/>
                </a:moveTo>
                <a:cubicBezTo>
                  <a:pt x="499010" y="0"/>
                  <a:pt x="642937" y="95951"/>
                  <a:pt x="642937" y="214313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Дуга 12"/>
          <p:cNvSpPr/>
          <p:nvPr/>
        </p:nvSpPr>
        <p:spPr>
          <a:xfrm>
            <a:off x="2643120" y="3214800"/>
            <a:ext cx="2857680" cy="2428920"/>
          </a:xfrm>
          <a:custGeom>
            <a:avLst/>
            <a:gdLst/>
            <a:ahLst/>
            <a:rect l="l" t="t" r="r" b="b"/>
            <a:pathLst>
              <a:path stroke="0" w="2857500" h="2428875">
                <a:moveTo>
                  <a:pt x="1428750" y="0"/>
                </a:moveTo>
                <a:cubicBezTo>
                  <a:pt x="1871828" y="0"/>
                  <a:pt x="2289833" y="174731"/>
                  <a:pt x="2560335" y="473015"/>
                </a:cubicBezTo>
                <a:cubicBezTo>
                  <a:pt x="2897977" y="845334"/>
                  <a:pt x="2952500" y="1349845"/>
                  <a:pt x="2700310" y="1768219"/>
                </a:cubicBezTo>
                <a:lnTo>
                  <a:pt x="1428750" y="1214438"/>
                </a:lnTo>
                <a:lnTo>
                  <a:pt x="1428750" y="0"/>
                </a:lnTo>
                <a:close/>
              </a:path>
              <a:path fill="none" w="2857500" h="2428875">
                <a:moveTo>
                  <a:pt x="1428750" y="0"/>
                </a:moveTo>
                <a:cubicBezTo>
                  <a:pt x="1871828" y="0"/>
                  <a:pt x="2289833" y="174731"/>
                  <a:pt x="2560335" y="473015"/>
                </a:cubicBezTo>
                <a:cubicBezTo>
                  <a:pt x="2897977" y="845334"/>
                  <a:pt x="2952500" y="1349845"/>
                  <a:pt x="2700310" y="1768219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Дуга 13"/>
          <p:cNvSpPr/>
          <p:nvPr/>
        </p:nvSpPr>
        <p:spPr>
          <a:xfrm rot="12704400">
            <a:off x="3187440" y="3012840"/>
            <a:ext cx="1409760" cy="1928520"/>
          </a:xfrm>
          <a:custGeom>
            <a:avLst/>
            <a:gdLst/>
            <a:ahLst/>
            <a:rect l="l" t="t" r="r" b="b"/>
            <a:pathLst>
              <a:path stroke="0" w="1409700" h="1928813">
                <a:moveTo>
                  <a:pt x="704850" y="0"/>
                </a:moveTo>
                <a:cubicBezTo>
                  <a:pt x="1051341" y="0"/>
                  <a:pt x="1346446" y="344570"/>
                  <a:pt x="1400931" y="812756"/>
                </a:cubicBezTo>
                <a:lnTo>
                  <a:pt x="704850" y="964407"/>
                </a:lnTo>
                <a:lnTo>
                  <a:pt x="704850" y="0"/>
                </a:lnTo>
                <a:close/>
              </a:path>
              <a:path fill="none" w="1409700" h="1928813">
                <a:moveTo>
                  <a:pt x="704850" y="0"/>
                </a:moveTo>
                <a:cubicBezTo>
                  <a:pt x="1051341" y="0"/>
                  <a:pt x="1346446" y="344570"/>
                  <a:pt x="1400931" y="812756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18:44Z</dcterms:created>
  <dc:creator>Speed_XP</dc:creator>
  <dc:description/>
  <dc:language>en-US</dc:language>
  <cp:lastModifiedBy>Сш3-00</cp:lastModifiedBy>
  <dcterms:modified xsi:type="dcterms:W3CDTF">2015-04-03T11:42:39Z</dcterms:modified>
  <cp:revision>24</cp:revision>
  <dc:subject/>
  <dc:title>Слайд 1</dc:title>
</cp:coreProperties>
</file>