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204-5630-4F67-B350-ED5C5DAA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B44-8118-4A19-B2D3-50BC9B8A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6D3-F38C-4868-B66C-10F0817B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341-1D08-4373-B894-AEE3307C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6ED3-C23D-4612-966E-ACE76B82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159-3A3D-4221-B7F5-FBAB89B7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BDDF-A23A-4F28-956A-C835D2F7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ABF2-3141-4447-B382-9E472C0E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133E-416F-4BF9-BFCE-64F7D10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BF21-6772-4839-B0F9-B2A9E8F4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813-1130-4352-A957-0BB7EE57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65C-775F-4D20-BA89-5B729A3E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4458-9E94-4B99-84B4-137C1C6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E3BD-70F8-47B5-A8AE-9B82B0F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C60D-9FDE-4C77-9CC4-A723AD71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83D5-DF5D-442A-8446-A4FFED2E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B30-C5F3-4277-980A-21EC598F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7991-C4E8-4E3E-99E9-D65EE65C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A3AA-F5C0-4CBF-A810-744063E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EF947-9073-46DD-B6D9-B40F8B5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5C4F-EA9D-48E4-8306-C8015337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CFA7-04B5-4FFC-831A-5A887C30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FCC-3092-48A3-BD95-861FAB5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754D-B28C-48E4-A8A6-A413D107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7786-32D0-4272-81D7-0406C02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1350-BB3F-481E-B571-CEFB0BD8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C7FC-BB21-4F77-B0D9-5AE81FCC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2FEB-F896-4194-ACD4-9E9EEDFB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F9F3-FD83-4DCB-B151-327E4C30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D4F9-59AB-4A53-8871-3628312E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625B-6F11-4E41-98CE-05C307D8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A68C-240E-4FB2-B63F-9582A2E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C180-EA93-4E66-9B5B-658C6B33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C09-7C0B-4BE1-9AA0-2926522A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179E-AD19-49F1-8406-2E743A2B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3654-7D85-41A7-9363-6D9F507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0E463-A197-4CBA-BC6F-9A3B471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F4E6-D749-4CD5-85F5-C7D732C8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8DB6-D2E3-4039-9791-32626A4D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3AD1-9694-41C3-8378-EA1EFA3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EE4F7-CADE-4D5F-ABBE-EF5BF7B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E8F3-75C3-49CF-9E4E-45563213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5EAF-67FE-4604-99EB-55F0C203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2F0-0C7C-407B-9146-8981C91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713-61BD-4C66-BA62-947CD4D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89E-BABA-4495-A3E9-BC7D7937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324-5E0E-44DC-B91F-05DE0CFA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B43-A3A9-41D7-B242-FFA22B46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0F9B-5D39-4BA0-9F97-3E1BB4284BA5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E323-FC35-48F5-9399-4547D235ABE7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de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de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75F9-5CA9-49EB-A3EB-8775A03005BA}" type="slidenum">
              <a:rPr b="0" lang="ru-RU" sz="1200" spc="-1" strike="noStrike">
                <a:solidFill>
                  <a:srgbClr val="d4d4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2a6066">
                  <a:alpha val="45098"/>
                </a:srgbClr>
              </a:gs>
              <a:gs pos="100000">
                <a:srgbClr val="a52fa9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2c80">
                  <a:alpha val="45098"/>
                </a:srgbClr>
              </a:gs>
              <a:gs pos="100000">
                <a:srgbClr val="2e7a8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04da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43808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04da3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465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405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F8C7-213B-4F47-ABF8-0BCC953F5C8E}" type="slidenum">
              <a:rPr b="0" lang="ru-RU" sz="1200" spc="-1" strike="noStrike">
                <a:solidFill>
                  <a:srgbClr val="3f405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6" descr=""/>
          <p:cNvPicPr/>
          <p:nvPr/>
        </p:nvPicPr>
        <p:blipFill>
          <a:blip r:embed="rId1"/>
          <a:stretch/>
        </p:blipFill>
        <p:spPr>
          <a:xfrm>
            <a:off x="828720" y="1773360"/>
            <a:ext cx="75722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8800" y="785880"/>
            <a:ext cx="7758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5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Сабақты бекіту</a:t>
            </a:r>
            <a:endParaRPr b="0" lang="en-US" sz="45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гісіз бұрыштың шамасы қандай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˚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28˚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52˚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153˚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иылысқан түзулер жазықтықты неше бұрышқа бөледі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4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Прямая соединительная линия 4"/>
          <p:cNvSpPr/>
          <p:nvPr/>
        </p:nvSpPr>
        <p:spPr>
          <a:xfrm>
            <a:off x="1714680" y="2143080"/>
            <a:ext cx="2500200" cy="1214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6"/>
          <p:cNvSpPr/>
          <p:nvPr/>
        </p:nvSpPr>
        <p:spPr>
          <a:xfrm flipH="1">
            <a:off x="1643040" y="2571840"/>
            <a:ext cx="2643120" cy="4284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Дуга 13"/>
          <p:cNvSpPr/>
          <p:nvPr/>
        </p:nvSpPr>
        <p:spPr>
          <a:xfrm>
            <a:off x="3357720" y="2714760"/>
            <a:ext cx="142560" cy="642960"/>
          </a:xfrm>
          <a:custGeom>
            <a:avLst/>
            <a:gdLst/>
            <a:ahLst/>
            <a:rect l="l" t="t" r="r" b="b"/>
            <a:pathLst>
              <a:path stroke="0" w="142875" h="642938">
                <a:moveTo>
                  <a:pt x="71437" y="0"/>
                </a:moveTo>
                <a:cubicBezTo>
                  <a:pt x="110891" y="0"/>
                  <a:pt x="142875" y="143927"/>
                  <a:pt x="142875" y="321469"/>
                </a:cubicBezTo>
                <a:lnTo>
                  <a:pt x="71438" y="321469"/>
                </a:lnTo>
                <a:cubicBezTo>
                  <a:pt x="71438" y="214313"/>
                  <a:pt x="71437" y="107156"/>
                  <a:pt x="71437" y="0"/>
                </a:cubicBezTo>
                <a:close/>
              </a:path>
              <a:path fill="none" w="142875" h="642938">
                <a:moveTo>
                  <a:pt x="71437" y="0"/>
                </a:moveTo>
                <a:cubicBezTo>
                  <a:pt x="110891" y="0"/>
                  <a:pt x="142875" y="143927"/>
                  <a:pt x="142875" y="32146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Дуга 14"/>
          <p:cNvSpPr/>
          <p:nvPr/>
        </p:nvSpPr>
        <p:spPr>
          <a:xfrm flipH="1" flipV="1" rot="1968600">
            <a:off x="2282040" y="2279520"/>
            <a:ext cx="428760" cy="642960"/>
          </a:xfrm>
          <a:custGeom>
            <a:avLst/>
            <a:gdLst/>
            <a:ahLst/>
            <a:rect l="l" t="t" r="r" b="b"/>
            <a:pathLst>
              <a:path stroke="0" w="428625" h="642938">
                <a:moveTo>
                  <a:pt x="214312" y="0"/>
                </a:moveTo>
                <a:cubicBezTo>
                  <a:pt x="332674" y="0"/>
                  <a:pt x="428625" y="143927"/>
                  <a:pt x="428625" y="321469"/>
                </a:cubicBezTo>
                <a:lnTo>
                  <a:pt x="214313" y="321469"/>
                </a:lnTo>
                <a:cubicBezTo>
                  <a:pt x="214313" y="214313"/>
                  <a:pt x="214312" y="107156"/>
                  <a:pt x="214312" y="0"/>
                </a:cubicBezTo>
                <a:close/>
              </a:path>
              <a:path fill="none" w="428625" h="642938">
                <a:moveTo>
                  <a:pt x="214312" y="0"/>
                </a:moveTo>
                <a:cubicBezTo>
                  <a:pt x="332674" y="0"/>
                  <a:pt x="428625" y="143927"/>
                  <a:pt x="428625" y="32146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Блок-схема: узел 15"/>
          <p:cNvSpPr/>
          <p:nvPr/>
        </p:nvSpPr>
        <p:spPr>
          <a:xfrm>
            <a:off x="2857680" y="271476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Қиылысу нүктесін а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Прямая соединительная линия 4"/>
          <p:cNvSpPr/>
          <p:nvPr/>
        </p:nvSpPr>
        <p:spPr>
          <a:xfrm>
            <a:off x="1428840" y="1643040"/>
            <a:ext cx="2286000" cy="1214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6"/>
          <p:cNvSpPr/>
          <p:nvPr/>
        </p:nvSpPr>
        <p:spPr>
          <a:xfrm flipH="1">
            <a:off x="1642680" y="1499400"/>
            <a:ext cx="1785960" cy="14288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Блок-схема: узел 8"/>
          <p:cNvSpPr/>
          <p:nvPr/>
        </p:nvSpPr>
        <p:spPr>
          <a:xfrm>
            <a:off x="2428920" y="214308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уреттен вертикаль бұрыштарды көрсе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             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2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1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3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Прямая соединительная линия 4"/>
          <p:cNvSpPr/>
          <p:nvPr/>
        </p:nvSpPr>
        <p:spPr>
          <a:xfrm>
            <a:off x="1928880" y="1714680"/>
            <a:ext cx="2214360" cy="10713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6"/>
          <p:cNvSpPr/>
          <p:nvPr/>
        </p:nvSpPr>
        <p:spPr>
          <a:xfrm flipH="1">
            <a:off x="1928520" y="1571760"/>
            <a:ext cx="2143080" cy="12859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Блок-схема: узел 8"/>
          <p:cNvSpPr/>
          <p:nvPr/>
        </p:nvSpPr>
        <p:spPr>
          <a:xfrm>
            <a:off x="2928960" y="2214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a04da3"/>
              </a:buClr>
              <a:buSzPct val="9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               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              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 бұрышына тең бұрышты та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Прямая соединительная линия 4"/>
          <p:cNvSpPr/>
          <p:nvPr/>
        </p:nvSpPr>
        <p:spPr>
          <a:xfrm>
            <a:off x="1500120" y="1285920"/>
            <a:ext cx="2357640" cy="13572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6"/>
          <p:cNvSpPr/>
          <p:nvPr/>
        </p:nvSpPr>
        <p:spPr>
          <a:xfrm flipH="1">
            <a:off x="1500120" y="928080"/>
            <a:ext cx="2286000" cy="1857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лок-схема: узел 7"/>
          <p:cNvSpPr/>
          <p:nvPr/>
        </p:nvSpPr>
        <p:spPr>
          <a:xfrm>
            <a:off x="2500200" y="185724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8"/>
          <p:cNvSpPr/>
          <p:nvPr/>
        </p:nvSpPr>
        <p:spPr>
          <a:xfrm>
            <a:off x="1071720" y="3500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Тест жауаптары: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ctr">
              <a:lnSpc>
                <a:spcPct val="100000"/>
              </a:lnSpc>
              <a:spcBef>
                <a:spcPts val="1100"/>
              </a:spcBef>
              <a:buClr>
                <a:srgbClr val="a04da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5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</a:t>
            </a:r>
            <a:r>
              <a:rPr b="0" i="1" lang="kk-KZ" sz="5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Үйге тапсырма:</a:t>
            </a:r>
            <a:endParaRPr b="0" lang="en-US" sz="5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№</a:t>
            </a:r>
            <a:r>
              <a:rPr b="0" i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70, №107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400" y="7045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Үй тапсырмасын сұрау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28400" y="2000160"/>
            <a:ext cx="8258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0" descr="SO00483_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6548400" y="5000760"/>
            <a:ext cx="2166840" cy="1541160"/>
          </a:xfrm>
          <a:prstGeom prst="rect">
            <a:avLst/>
          </a:prstGeom>
          <a:ln w="0">
            <a:noFill/>
          </a:ln>
        </p:spPr>
      </p:pic>
      <p:sp>
        <p:nvSpPr>
          <p:cNvPr id="208" name="Блок-схема: узел 4"/>
          <p:cNvSpPr/>
          <p:nvPr/>
        </p:nvSpPr>
        <p:spPr>
          <a:xfrm>
            <a:off x="500040" y="2357280"/>
            <a:ext cx="142920" cy="14292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6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6632640" cy="523800"/>
          </a:xfrm>
          <a:prstGeom prst="rect">
            <a:avLst/>
          </a:prstGeom>
          <a:ln w="0">
            <a:noFill/>
          </a:ln>
        </p:spPr>
      </p:pic>
      <p:sp>
        <p:nvSpPr>
          <p:cNvPr id="210" name="Блок-схема: узел 9"/>
          <p:cNvSpPr/>
          <p:nvPr/>
        </p:nvSpPr>
        <p:spPr>
          <a:xfrm flipV="1">
            <a:off x="500040" y="3142440"/>
            <a:ext cx="142920" cy="142920"/>
          </a:xfrm>
          <a:prstGeom prst="flowChartConnector">
            <a:avLst/>
          </a:prstGeom>
          <a:solidFill>
            <a:srgbClr val="c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Прямоугольник 10" descr=""/>
          <p:cNvPicPr/>
          <p:nvPr/>
        </p:nvPicPr>
        <p:blipFill>
          <a:blip r:embed="rId3"/>
          <a:stretch/>
        </p:blipFill>
        <p:spPr>
          <a:xfrm>
            <a:off x="1712880" y="3071880"/>
            <a:ext cx="50356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Блок-схема: узел 3"/>
          <p:cNvSpPr/>
          <p:nvPr/>
        </p:nvSpPr>
        <p:spPr>
          <a:xfrm>
            <a:off x="1357200" y="2214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Блок-схема: узел 5"/>
          <p:cNvSpPr/>
          <p:nvPr/>
        </p:nvSpPr>
        <p:spPr>
          <a:xfrm>
            <a:off x="3500280" y="2214720"/>
            <a:ext cx="142920" cy="142560"/>
          </a:xfrm>
          <a:prstGeom prst="flowChartConnector">
            <a:avLst/>
          </a:prstGeom>
          <a:solidFill>
            <a:srgbClr val="00206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6" descr=""/>
          <p:cNvPicPr/>
          <p:nvPr/>
        </p:nvPicPr>
        <p:blipFill>
          <a:blip r:embed="rId1"/>
          <a:stretch/>
        </p:blipFill>
        <p:spPr>
          <a:xfrm>
            <a:off x="1047600" y="1212840"/>
            <a:ext cx="605160" cy="95076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8" descr=""/>
          <p:cNvPicPr/>
          <p:nvPr/>
        </p:nvPicPr>
        <p:blipFill>
          <a:blip r:embed="rId2"/>
          <a:stretch/>
        </p:blipFill>
        <p:spPr>
          <a:xfrm>
            <a:off x="3322800" y="1200240"/>
            <a:ext cx="554040" cy="9525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ая соединительная линия 10"/>
          <p:cNvSpPr/>
          <p:nvPr/>
        </p:nvSpPr>
        <p:spPr>
          <a:xfrm>
            <a:off x="714240" y="2286000"/>
            <a:ext cx="392904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13"/>
          <p:cNvSpPr/>
          <p:nvPr/>
        </p:nvSpPr>
        <p:spPr>
          <a:xfrm>
            <a:off x="5643720" y="2714760"/>
            <a:ext cx="2000160" cy="13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14"/>
          <p:cNvSpPr/>
          <p:nvPr/>
        </p:nvSpPr>
        <p:spPr>
          <a:xfrm flipV="1">
            <a:off x="5214960" y="4928760"/>
            <a:ext cx="228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16" descr=""/>
          <p:cNvPicPr/>
          <p:nvPr/>
        </p:nvPicPr>
        <p:blipFill>
          <a:blip r:embed="rId3"/>
          <a:stretch/>
        </p:blipFill>
        <p:spPr>
          <a:xfrm>
            <a:off x="7351560" y="3144960"/>
            <a:ext cx="444600" cy="92052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17" descr=""/>
          <p:cNvPicPr/>
          <p:nvPr/>
        </p:nvPicPr>
        <p:blipFill>
          <a:blip r:embed="rId4"/>
          <a:stretch/>
        </p:blipFill>
        <p:spPr>
          <a:xfrm>
            <a:off x="6424560" y="4145040"/>
            <a:ext cx="506520" cy="920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3920" y="2857680"/>
            <a:ext cx="2543400" cy="36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-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урет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5429160" y="5500800"/>
            <a:ext cx="25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-</a:t>
            </a:r>
            <a:r>
              <a:rPr b="0" lang="kk-KZ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у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0"/>
          <p:cNvSpPr/>
          <p:nvPr/>
        </p:nvSpPr>
        <p:spPr>
          <a:xfrm flipV="1">
            <a:off x="4357800" y="4857840"/>
            <a:ext cx="27144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77580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Қиылысатын екі түзудің ортақ бір ғана нүктесі болады</a:t>
            </a:r>
            <a:endParaRPr b="0" lang="en-US" sz="2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                                b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a                   b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         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Прямая соединительная линия 4"/>
          <p:cNvSpPr/>
          <p:nvPr/>
        </p:nvSpPr>
        <p:spPr>
          <a:xfrm>
            <a:off x="785880" y="2286000"/>
            <a:ext cx="2786040" cy="207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6"/>
          <p:cNvSpPr/>
          <p:nvPr/>
        </p:nvSpPr>
        <p:spPr>
          <a:xfrm flipH="1">
            <a:off x="357120" y="2428200"/>
            <a:ext cx="3857760" cy="17859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Блок-схема: узел 7"/>
          <p:cNvSpPr/>
          <p:nvPr/>
        </p:nvSpPr>
        <p:spPr>
          <a:xfrm>
            <a:off x="2071800" y="3286080"/>
            <a:ext cx="21420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2"/>
          <p:cNvSpPr/>
          <p:nvPr/>
        </p:nvSpPr>
        <p:spPr>
          <a:xfrm flipH="1">
            <a:off x="4286160" y="3714120"/>
            <a:ext cx="3857760" cy="178596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>
            <a:off x="4572000" y="3429000"/>
            <a:ext cx="2786040" cy="20718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5480" y="1071720"/>
            <a:ext cx="8543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ір бұрыштың қабырғалары, екінші бұрыштың қабырғаларымен толықтауыш  сәулелер болатын екі бұрыш </a:t>
            </a:r>
            <a:br>
              <a:rPr sz="3200"/>
            </a:br>
            <a:r>
              <a:rPr b="1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икаль бұрыштар</a:t>
            </a: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еп аталады.</a:t>
            </a:r>
            <a:br>
              <a:rPr sz="3200"/>
            </a:br>
            <a:br>
              <a:rPr sz="3200"/>
            </a:br>
            <a:r>
              <a:rPr b="0" i="1" lang="kk-KZ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тикаль бұрыштар өзара тең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0" y="2714400"/>
            <a:ext cx="35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a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3" name="Прямая соединительная линия 4"/>
          <p:cNvSpPr/>
          <p:nvPr/>
        </p:nvSpPr>
        <p:spPr>
          <a:xfrm>
            <a:off x="1714680" y="3571920"/>
            <a:ext cx="457200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5"/>
          <p:cNvSpPr/>
          <p:nvPr/>
        </p:nvSpPr>
        <p:spPr>
          <a:xfrm>
            <a:off x="1714680" y="5500800"/>
            <a:ext cx="4572000" cy="14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9"/>
          <p:cNvSpPr/>
          <p:nvPr/>
        </p:nvSpPr>
        <p:spPr>
          <a:xfrm>
            <a:off x="2214720" y="2857680"/>
            <a:ext cx="3357360" cy="3286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12"/>
          <p:cNvSpPr/>
          <p:nvPr/>
        </p:nvSpPr>
        <p:spPr>
          <a:xfrm flipH="1">
            <a:off x="2357280" y="2928960"/>
            <a:ext cx="3214800" cy="3286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Блок-схема: узел 13"/>
          <p:cNvSpPr/>
          <p:nvPr/>
        </p:nvSpPr>
        <p:spPr>
          <a:xfrm>
            <a:off x="2857680" y="3500280"/>
            <a:ext cx="14256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Блок-схема: узел 14"/>
          <p:cNvSpPr/>
          <p:nvPr/>
        </p:nvSpPr>
        <p:spPr>
          <a:xfrm>
            <a:off x="4929120" y="350028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Блок-схема: узел 15"/>
          <p:cNvSpPr/>
          <p:nvPr/>
        </p:nvSpPr>
        <p:spPr>
          <a:xfrm>
            <a:off x="3929040" y="4500720"/>
            <a:ext cx="142920" cy="14256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Блок-схема: узел 17"/>
          <p:cNvSpPr/>
          <p:nvPr/>
        </p:nvSpPr>
        <p:spPr>
          <a:xfrm>
            <a:off x="3000240" y="542916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Блок-схема: узел 18"/>
          <p:cNvSpPr/>
          <p:nvPr/>
        </p:nvSpPr>
        <p:spPr>
          <a:xfrm>
            <a:off x="4857840" y="5429160"/>
            <a:ext cx="142920" cy="142920"/>
          </a:xfrm>
          <a:prstGeom prst="flowChartConnector">
            <a:avLst/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5143680" y="278604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6000840" y="50007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6000840" y="3071880"/>
            <a:ext cx="285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Заголовок 1"/>
          <p:cNvSpPr/>
          <p:nvPr/>
        </p:nvSpPr>
        <p:spPr>
          <a:xfrm>
            <a:off x="2928960" y="31431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Заголовок 1"/>
          <p:cNvSpPr/>
          <p:nvPr/>
        </p:nvSpPr>
        <p:spPr>
          <a:xfrm>
            <a:off x="4643280" y="3000240"/>
            <a:ext cx="357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3786120" y="385776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3000240" y="571500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4643280" y="564372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Прямоугольник 27" descr=""/>
          <p:cNvPicPr/>
          <p:nvPr/>
        </p:nvPicPr>
        <p:blipFill>
          <a:blip r:embed="rId1"/>
          <a:stretch/>
        </p:blipFill>
        <p:spPr>
          <a:xfrm>
            <a:off x="785880" y="858960"/>
            <a:ext cx="7858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213920" y="3071520"/>
            <a:ext cx="747252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3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               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Заголовок 3" descr=""/>
          <p:cNvPicPr/>
          <p:nvPr/>
        </p:nvPicPr>
        <p:blipFill>
          <a:blip r:embed="rId1"/>
          <a:stretch/>
        </p:blipFill>
        <p:spPr>
          <a:xfrm>
            <a:off x="639720" y="712800"/>
            <a:ext cx="8047080" cy="19382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5"/>
          <p:cNvSpPr/>
          <p:nvPr/>
        </p:nvSpPr>
        <p:spPr>
          <a:xfrm>
            <a:off x="3071880" y="3500280"/>
            <a:ext cx="3000240" cy="1857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7"/>
          <p:cNvSpPr/>
          <p:nvPr/>
        </p:nvSpPr>
        <p:spPr>
          <a:xfrm flipV="1">
            <a:off x="2500200" y="4428720"/>
            <a:ext cx="4214880" cy="716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9"/>
          <p:cNvSpPr/>
          <p:nvPr/>
        </p:nvSpPr>
        <p:spPr>
          <a:xfrm flipH="1">
            <a:off x="3642840" y="3071880"/>
            <a:ext cx="2000520" cy="26431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56800" y="2857680"/>
            <a:ext cx="782964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    1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    O     2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Заголовок 3" descr=""/>
          <p:cNvPicPr/>
          <p:nvPr/>
        </p:nvPicPr>
        <p:blipFill>
          <a:blip r:embed="rId1"/>
          <a:stretch/>
        </p:blipFill>
        <p:spPr>
          <a:xfrm>
            <a:off x="500040" y="927000"/>
            <a:ext cx="8229600" cy="15717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ая соединительная линия 5"/>
          <p:cNvSpPr/>
          <p:nvPr/>
        </p:nvSpPr>
        <p:spPr>
          <a:xfrm>
            <a:off x="3071880" y="3214800"/>
            <a:ext cx="2000160" cy="25714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3857760" y="3000240"/>
            <a:ext cx="357120" cy="30006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Дуга 11"/>
          <p:cNvSpPr/>
          <p:nvPr/>
        </p:nvSpPr>
        <p:spPr>
          <a:xfrm flipV="1" rot="10505400">
            <a:off x="3707280" y="3876480"/>
            <a:ext cx="442440" cy="176040"/>
          </a:xfrm>
          <a:custGeom>
            <a:avLst/>
            <a:gdLst/>
            <a:ahLst/>
            <a:rect l="l" t="t" r="r" b="b"/>
            <a:pathLst>
              <a:path stroke="0" w="442912" h="176213">
                <a:moveTo>
                  <a:pt x="221456" y="0"/>
                </a:moveTo>
                <a:cubicBezTo>
                  <a:pt x="343763" y="0"/>
                  <a:pt x="442912" y="39447"/>
                  <a:pt x="442912" y="88107"/>
                </a:cubicBezTo>
                <a:lnTo>
                  <a:pt x="221456" y="88107"/>
                </a:lnTo>
                <a:lnTo>
                  <a:pt x="221456" y="0"/>
                </a:lnTo>
                <a:close/>
              </a:path>
              <a:path fill="none" w="442912" h="176213">
                <a:moveTo>
                  <a:pt x="221456" y="0"/>
                </a:moveTo>
                <a:cubicBezTo>
                  <a:pt x="343763" y="0"/>
                  <a:pt x="442912" y="39447"/>
                  <a:pt x="442912" y="88107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Дуга 12"/>
          <p:cNvSpPr/>
          <p:nvPr/>
        </p:nvSpPr>
        <p:spPr>
          <a:xfrm flipH="1" flipV="1" rot="9153600">
            <a:off x="3610800" y="3767040"/>
            <a:ext cx="611280" cy="1564920"/>
          </a:xfrm>
          <a:custGeom>
            <a:avLst/>
            <a:gdLst/>
            <a:ahLst/>
            <a:rect l="l" t="t" r="r" b="b"/>
            <a:pathLst>
              <a:path stroke="0" w="611187" h="1565275">
                <a:moveTo>
                  <a:pt x="589515" y="493162"/>
                </a:moveTo>
                <a:cubicBezTo>
                  <a:pt x="604222" y="587772"/>
                  <a:pt x="611578" y="688822"/>
                  <a:pt x="611171" y="790648"/>
                </a:cubicBezTo>
                <a:cubicBezTo>
                  <a:pt x="610746" y="896964"/>
                  <a:pt x="601867" y="1001944"/>
                  <a:pt x="585076" y="1099182"/>
                </a:cubicBezTo>
                <a:lnTo>
                  <a:pt x="305594" y="782638"/>
                </a:lnTo>
                <a:lnTo>
                  <a:pt x="589515" y="493162"/>
                </a:lnTo>
                <a:close/>
              </a:path>
              <a:path fill="none" w="611187" h="1565275">
                <a:moveTo>
                  <a:pt x="589515" y="493162"/>
                </a:moveTo>
                <a:cubicBezTo>
                  <a:pt x="604222" y="587772"/>
                  <a:pt x="611578" y="688822"/>
                  <a:pt x="611171" y="790648"/>
                </a:cubicBezTo>
                <a:cubicBezTo>
                  <a:pt x="610746" y="896964"/>
                  <a:pt x="601867" y="1001944"/>
                  <a:pt x="585076" y="1099182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Дуга 13"/>
          <p:cNvSpPr/>
          <p:nvPr/>
        </p:nvSpPr>
        <p:spPr>
          <a:xfrm flipH="1" flipV="1" rot="20327400">
            <a:off x="3874320" y="3595320"/>
            <a:ext cx="774720" cy="1465560"/>
          </a:xfrm>
          <a:custGeom>
            <a:avLst/>
            <a:gdLst/>
            <a:ahLst/>
            <a:rect l="l" t="t" r="r" b="b"/>
            <a:pathLst>
              <a:path stroke="0" w="774700" h="1465262">
                <a:moveTo>
                  <a:pt x="728316" y="384995"/>
                </a:moveTo>
                <a:cubicBezTo>
                  <a:pt x="780200" y="567044"/>
                  <a:pt x="788987" y="782089"/>
                  <a:pt x="752507" y="977054"/>
                </a:cubicBezTo>
                <a:lnTo>
                  <a:pt x="387350" y="732631"/>
                </a:lnTo>
                <a:lnTo>
                  <a:pt x="728316" y="384995"/>
                </a:lnTo>
                <a:close/>
              </a:path>
              <a:path fill="none" w="774700" h="1465262">
                <a:moveTo>
                  <a:pt x="728316" y="384995"/>
                </a:moveTo>
                <a:cubicBezTo>
                  <a:pt x="780200" y="567044"/>
                  <a:pt x="788987" y="782089"/>
                  <a:pt x="752507" y="977054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Дуга 14"/>
          <p:cNvSpPr/>
          <p:nvPr/>
        </p:nvSpPr>
        <p:spPr>
          <a:xfrm flipH="1" rot="10505400">
            <a:off x="3865680" y="4806000"/>
            <a:ext cx="498240" cy="192240"/>
          </a:xfrm>
          <a:custGeom>
            <a:avLst/>
            <a:gdLst/>
            <a:ahLst/>
            <a:rect l="l" t="t" r="r" b="b"/>
            <a:pathLst>
              <a:path stroke="0" w="498475" h="192088">
                <a:moveTo>
                  <a:pt x="249237" y="0"/>
                </a:moveTo>
                <a:cubicBezTo>
                  <a:pt x="386887" y="0"/>
                  <a:pt x="498475" y="43000"/>
                  <a:pt x="498475" y="96044"/>
                </a:cubicBezTo>
                <a:lnTo>
                  <a:pt x="249238" y="96044"/>
                </a:lnTo>
                <a:cubicBezTo>
                  <a:pt x="249238" y="64029"/>
                  <a:pt x="249237" y="32015"/>
                  <a:pt x="249237" y="0"/>
                </a:cubicBezTo>
                <a:close/>
              </a:path>
              <a:path fill="none" w="498475" h="192088">
                <a:moveTo>
                  <a:pt x="249237" y="0"/>
                </a:moveTo>
                <a:cubicBezTo>
                  <a:pt x="386887" y="0"/>
                  <a:pt x="498475" y="43000"/>
                  <a:pt x="498475" y="96044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56800" y="2571840"/>
            <a:ext cx="782964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А   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˚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?                О                </a:t>
            </a:r>
            <a:r>
              <a:rPr b="0" i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˚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С                                         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r>
              <a:rPr b="0" i="1" lang="kk-KZ" sz="2600" spc="-1" strike="noStrike">
                <a:solidFill>
                  <a:srgbClr val="000000"/>
                </a:solidFill>
                <a:latin typeface="Constantia"/>
              </a:rPr>
              <a:t>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Заголовок 3" descr=""/>
          <p:cNvPicPr/>
          <p:nvPr/>
        </p:nvPicPr>
        <p:blipFill>
          <a:blip r:embed="rId1"/>
          <a:stretch/>
        </p:blipFill>
        <p:spPr>
          <a:xfrm>
            <a:off x="457200" y="858960"/>
            <a:ext cx="8229600" cy="1201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ая соединительная линия 5"/>
          <p:cNvSpPr/>
          <p:nvPr/>
        </p:nvSpPr>
        <p:spPr>
          <a:xfrm>
            <a:off x="2357280" y="3214800"/>
            <a:ext cx="3571920" cy="21430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7"/>
          <p:cNvSpPr/>
          <p:nvPr/>
        </p:nvSpPr>
        <p:spPr>
          <a:xfrm flipH="1">
            <a:off x="2571480" y="2999520"/>
            <a:ext cx="3214440" cy="24289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>
            <a:off x="3999960" y="2571840"/>
            <a:ext cx="214200" cy="300024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уга 11"/>
          <p:cNvSpPr/>
          <p:nvPr/>
        </p:nvSpPr>
        <p:spPr>
          <a:xfrm>
            <a:off x="3786120" y="3786120"/>
            <a:ext cx="642960" cy="428760"/>
          </a:xfrm>
          <a:custGeom>
            <a:avLst/>
            <a:gdLst/>
            <a:ahLst/>
            <a:rect l="l" t="t" r="r" b="b"/>
            <a:pathLst>
              <a:path stroke="0" w="642937" h="428625">
                <a:moveTo>
                  <a:pt x="321468" y="0"/>
                </a:moveTo>
                <a:cubicBezTo>
                  <a:pt x="499010" y="0"/>
                  <a:pt x="642937" y="95951"/>
                  <a:pt x="642937" y="214313"/>
                </a:cubicBezTo>
                <a:lnTo>
                  <a:pt x="321469" y="214313"/>
                </a:lnTo>
                <a:cubicBezTo>
                  <a:pt x="321469" y="142875"/>
                  <a:pt x="321468" y="71438"/>
                  <a:pt x="321468" y="0"/>
                </a:cubicBezTo>
                <a:close/>
              </a:path>
              <a:path fill="none" w="642937" h="428625">
                <a:moveTo>
                  <a:pt x="321468" y="0"/>
                </a:moveTo>
                <a:cubicBezTo>
                  <a:pt x="499010" y="0"/>
                  <a:pt x="642937" y="95951"/>
                  <a:pt x="642937" y="214313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Дуга 12"/>
          <p:cNvSpPr/>
          <p:nvPr/>
        </p:nvSpPr>
        <p:spPr>
          <a:xfrm>
            <a:off x="2643120" y="3214800"/>
            <a:ext cx="2857680" cy="2428920"/>
          </a:xfrm>
          <a:custGeom>
            <a:avLst/>
            <a:gdLst/>
            <a:ahLst/>
            <a:rect l="l" t="t" r="r" b="b"/>
            <a:pathLst>
              <a:path stroke="0" w="2857500" h="2428875">
                <a:moveTo>
                  <a:pt x="1428750" y="0"/>
                </a:moveTo>
                <a:cubicBezTo>
                  <a:pt x="1871828" y="0"/>
                  <a:pt x="2289833" y="174731"/>
                  <a:pt x="2560335" y="473015"/>
                </a:cubicBezTo>
                <a:cubicBezTo>
                  <a:pt x="2897977" y="845334"/>
                  <a:pt x="2952500" y="1349845"/>
                  <a:pt x="2700310" y="1768219"/>
                </a:cubicBezTo>
                <a:lnTo>
                  <a:pt x="1428750" y="1214438"/>
                </a:lnTo>
                <a:lnTo>
                  <a:pt x="1428750" y="0"/>
                </a:lnTo>
                <a:close/>
              </a:path>
              <a:path fill="none" w="2857500" h="2428875">
                <a:moveTo>
                  <a:pt x="1428750" y="0"/>
                </a:moveTo>
                <a:cubicBezTo>
                  <a:pt x="1871828" y="0"/>
                  <a:pt x="2289833" y="174731"/>
                  <a:pt x="2560335" y="473015"/>
                </a:cubicBezTo>
                <a:cubicBezTo>
                  <a:pt x="2897977" y="845334"/>
                  <a:pt x="2952500" y="1349845"/>
                  <a:pt x="2700310" y="1768219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Дуга 13"/>
          <p:cNvSpPr/>
          <p:nvPr/>
        </p:nvSpPr>
        <p:spPr>
          <a:xfrm rot="12704400">
            <a:off x="3187440" y="3012840"/>
            <a:ext cx="1409760" cy="1928520"/>
          </a:xfrm>
          <a:custGeom>
            <a:avLst/>
            <a:gdLst/>
            <a:ahLst/>
            <a:rect l="l" t="t" r="r" b="b"/>
            <a:pathLst>
              <a:path stroke="0" w="1409700" h="1928813">
                <a:moveTo>
                  <a:pt x="704850" y="0"/>
                </a:moveTo>
                <a:cubicBezTo>
                  <a:pt x="1051341" y="0"/>
                  <a:pt x="1346446" y="344570"/>
                  <a:pt x="1400931" y="812756"/>
                </a:cubicBezTo>
                <a:lnTo>
                  <a:pt x="704850" y="964407"/>
                </a:lnTo>
                <a:lnTo>
                  <a:pt x="704850" y="0"/>
                </a:lnTo>
                <a:close/>
              </a:path>
              <a:path fill="none" w="1409700" h="1928813">
                <a:moveTo>
                  <a:pt x="704850" y="0"/>
                </a:moveTo>
                <a:cubicBezTo>
                  <a:pt x="1051341" y="0"/>
                  <a:pt x="1346446" y="344570"/>
                  <a:pt x="1400931" y="812756"/>
                </a:cubicBezTo>
              </a:path>
            </a:pathLst>
          </a:custGeom>
          <a:noFill/>
          <a:ln w="9360">
            <a:solidFill>
              <a:srgbClr val="5354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18:44Z</dcterms:created>
  <dc:creator>Speed_XP</dc:creator>
  <dc:description/>
  <dc:language>en-US</dc:language>
  <cp:lastModifiedBy>Сш3-00</cp:lastModifiedBy>
  <dcterms:modified xsi:type="dcterms:W3CDTF">2015-04-03T11:42:39Z</dcterms:modified>
  <cp:revision>24</cp:revision>
  <dc:subject/>
  <dc:title>Слайд 1</dc:title>
</cp:coreProperties>
</file>